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8.wmf" ContentType="image/x-wmf"/>
  <Override PartName="/ppt/media/image30.png" ContentType="image/png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6.png" ContentType="image/png"/>
  <Override PartName="/ppt/media/image25.png" ContentType="image/png"/>
  <Override PartName="/ppt/media/image2.gif" ContentType="image/gif"/>
  <Override PartName="/ppt/media/image10.wmf" ContentType="image/x-wmf"/>
  <Override PartName="/ppt/media/image47.wmf" ContentType="image/x-wmf"/>
  <Override PartName="/ppt/media/image27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39.png" ContentType="image/png"/>
  <Override PartName="/ppt/media/image42.wmf" ContentType="image/x-wmf"/>
  <Override PartName="/ppt/media/image41.wmf" ContentType="image/x-wmf"/>
  <Override PartName="/ppt/media/image43.wmf" ContentType="image/x-wmf"/>
  <Override PartName="/ppt/media/image44.wmf" ContentType="image/x-wmf"/>
  <Override PartName="/ppt/media/image33.wmf" ContentType="image/x-wmf"/>
  <Override PartName="/ppt/media/image13.png" ContentType="image/png"/>
  <Override PartName="/ppt/media/image34.png" ContentType="image/png"/>
  <Override PartName="/ppt/media/image45.wmf" ContentType="image/x-wmf"/>
  <Override PartName="/ppt/media/image46.wmf" ContentType="image/x-wmf"/>
  <Override PartName="/ppt/media/image3.png" ContentType="image/png"/>
  <Override PartName="/ppt/media/image51.wmf" ContentType="image/x-wmf"/>
  <Override PartName="/ppt/media/image32.wmf" ContentType="image/x-wmf"/>
  <Override PartName="/ppt/media/image31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9.wmf" ContentType="image/x-wmf"/>
  <Override PartName="/ppt/media/image12.png" ContentType="image/png"/>
  <Override PartName="/ppt/media/image49.png" ContentType="image/png"/>
  <Override PartName="/ppt/media/image50.png" ContentType="image/png"/>
  <Override PartName="/ppt/media/image11.wmf" ContentType="image/x-wmf"/>
  <Override PartName="/ppt/media/image48.wmf" ContentType="image/x-wmf"/>
  <Override PartName="/ppt/media/image5.png" ContentType="image/png"/>
  <Override PartName="/ppt/media/image7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8280" y="3858840"/>
            <a:ext cx="789624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385308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4320" y="1261800"/>
            <a:ext cx="385308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8280" y="3858840"/>
            <a:ext cx="385308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4320" y="3858840"/>
            <a:ext cx="385308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254232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8040" y="1261800"/>
            <a:ext cx="254232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800" y="1261800"/>
            <a:ext cx="254232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38280" y="3858840"/>
            <a:ext cx="254232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8040" y="3858840"/>
            <a:ext cx="254232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800" y="3858840"/>
            <a:ext cx="254232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38530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4320" y="1261800"/>
            <a:ext cx="38530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6720" y="213840"/>
            <a:ext cx="8747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385308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4320" y="1261800"/>
            <a:ext cx="38530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38280" y="3858840"/>
            <a:ext cx="385308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38530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4320" y="1261800"/>
            <a:ext cx="385308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4320" y="3858840"/>
            <a:ext cx="385308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385308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4320" y="1261800"/>
            <a:ext cx="385308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38280" y="3858840"/>
            <a:ext cx="789624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12920" cy="444816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271360" y="636264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F8FD-F218-414A-A916-F38C9D2AFE77}" type="slidenum">
              <a:rPr b="1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446880"/>
            <a:ext cx="1956960" cy="411120"/>
            <a:chOff x="0" y="6446880"/>
            <a:chExt cx="1956960" cy="411120"/>
          </a:xfrm>
        </p:grpSpPr>
        <p:pic>
          <p:nvPicPr>
            <p:cNvPr id="6" name="" descr=""/>
            <p:cNvPicPr/>
            <p:nvPr/>
          </p:nvPicPr>
          <p:blipFill>
            <a:blip r:embed="rId2"/>
            <a:srcRect l="22412" t="0" r="0" b="0"/>
            <a:stretch/>
          </p:blipFill>
          <p:spPr>
            <a:xfrm>
              <a:off x="404280" y="6446880"/>
              <a:ext cx="1552680" cy="4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485760"/>
              <a:ext cx="414000" cy="350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7534440" y="-28440"/>
            <a:ext cx="160956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3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hyperlink" Target="file:///tmp/home/.config/libreoffice/4/user/gallery/male_012.wav" TargetMode="External"/><Relationship Id="rId4" Type="http://schemas.openxmlformats.org/officeDocument/2006/relationships/hyperlink" Target="file:///tmp/home/.config/libreoffice/4/user/gallery/female_012.wav" TargetMode="External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19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8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hyperlink" Target="file:///tmp/home/.config/libreoffice/4/user/gallery/nosillence.wav" TargetMode="External"/><Relationship Id="rId4" Type="http://schemas.openxmlformats.org/officeDocument/2006/relationships/hyperlink" Target="file:///tmp/home/.config/libreoffice/4/user/gallery/withsilence.wav" TargetMode="External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00"/>
                </a:solidFill>
                <a:latin typeface="Arial Narrow"/>
              </a:rPr>
              <a:t>Speaker Verification</a:t>
            </a:r>
            <a:br>
              <a:rPr sz="5400"/>
            </a:br>
            <a:r>
              <a:rPr b="1" i="1" lang="en-US" sz="4400" spc="-1" strike="noStrike">
                <a:solidFill>
                  <a:srgbClr val="990000"/>
                </a:solidFill>
                <a:latin typeface="Arial Narrow"/>
              </a:rPr>
              <a:t>Tutorial for Sony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sented by Dr. Simon Lucey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dvanced Multimedia Processing (AMP) Labs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arnegie Mellon University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9/5/2002-9/6/2002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San Jose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Applications - Speaker identification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162920" y="990720"/>
            <a:ext cx="1066680" cy="1790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58000" y="48006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7543800" y="2895480"/>
            <a:ext cx="677880" cy="1714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7720" y="5181480"/>
            <a:ext cx="49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one is it Marge, Homer or Bart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029200" y="266652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3809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809880"/>
            <a:ext cx="175248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26040" y="23623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30600" y="32767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06920" y="434340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38080" y="3430440"/>
            <a:ext cx="140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ahoma"/>
              </a:rPr>
              <a:t>N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2362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3733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762120" y="1143000"/>
            <a:ext cx="2732040" cy="204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Parametric classifier - Introduction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261800"/>
            <a:ext cx="84582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arametric classifiers are the classifier of choice in speaker verification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Have benefits, over other classifiers, for tasks where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a large number of observation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ptation to different testing conditions is require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number of classes exist (i.e. number of clients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rm mathematical formalism is required, for extension and adapt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Parametric classifier – What?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arametric classifiers try to find parametric representation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of likelihood functio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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Useful for problems with large amounts of observations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Represent an infinite number of observations, using a finite parametric representation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Parametric classifiers – Example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6067440" cy="4829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3657600" y="2133720"/>
                <a:ext cx="7621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6697800" y="4038480"/>
                <a:ext cx="77940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 flipH="1">
            <a:off x="6095880" y="2362320"/>
            <a:ext cx="990720" cy="5331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172200" y="990720"/>
            <a:ext cx="2743200" cy="2133360"/>
          </a:xfrm>
          <a:prstGeom prst="irregularSeal1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490800" y="1523880"/>
            <a:ext cx="202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ound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ults indirec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048120" y="4114440"/>
            <a:ext cx="53316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657600" y="54100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523880" y="4648320"/>
            <a:ext cx="2590920" cy="2514600"/>
          </a:xfrm>
          <a:prstGeom prst="irregularSeal1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994040" y="5334120"/>
            <a:ext cx="170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lici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nd likeli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Parametric classifiers – Problems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aced with two problems,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901"/>
              </a:spcBef>
              <a:buClr>
                <a:srgbClr val="990000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Estimation </a:t>
            </a:r>
            <a:r>
              <a:rPr b="1" lang="en-US" sz="3600" spc="-1" strike="noStrike">
                <a:solidFill>
                  <a:srgbClr val="3333cc"/>
                </a:solidFill>
                <a:latin typeface="Arial Narrow"/>
              </a:rPr>
              <a:t>(finding model 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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901"/>
              </a:spcBef>
              <a:buClr>
                <a:srgbClr val="990000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Evaluation </a:t>
            </a:r>
            <a:r>
              <a:rPr b="1" lang="en-US" sz="3600" spc="-1" strike="noStrike">
                <a:solidFill>
                  <a:srgbClr val="3333cc"/>
                </a:solidFill>
                <a:latin typeface="Arial Narrow"/>
              </a:rPr>
              <a:t>(finding how well the utterance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en-US" sz="3600" spc="-1" strike="noStrike">
                <a:solidFill>
                  <a:srgbClr val="3333cc"/>
                </a:solidFill>
                <a:latin typeface="Arial Narrow"/>
              </a:rPr>
              <a:t> fits model 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1" lang="en-US" sz="36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7" name=""/>
          <p:cNvSpPr/>
          <p:nvPr/>
        </p:nvSpPr>
        <p:spPr>
          <a:xfrm>
            <a:off x="1295280" y="44956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Estimation usually most difficult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Parametric classifiers - Problems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arely have access to parametric representatio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Only have access to training observation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1752480" y="2341440"/>
            <a:ext cx="6400800" cy="451656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304920" y="2514600"/>
            <a:ext cx="3809880" cy="2666880"/>
          </a:xfrm>
          <a:prstGeom prst="irregularSeal2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Have to est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from 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and prior 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Parametric classifiers – Estimation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raining observations give no information on parametric form (i.e. Gaussian, Laplacian, Cauchy)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xample, for a Gaussian distribu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, parametric form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where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4" name=""/>
          <p:cNvSpPr/>
          <p:nvPr/>
        </p:nvSpPr>
        <p:spPr>
          <a:xfrm>
            <a:off x="2862360" y="4111560"/>
            <a:ext cx="292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covar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752480" y="5410080"/>
            <a:ext cx="6019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an make a piece wise approx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Using Gaussian mixture models (GMM)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990000"/>
                </a:solidFill>
                <a:latin typeface="Arial Narrow"/>
              </a:rPr>
              <a:t>PDF – What is an pdf?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37920" y="1261800"/>
            <a:ext cx="8048520" cy="30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A probability density function (pdf) (i.e. the explicit distribution) describes the probability that an observation will exist within a certain range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Formally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2387520" y="4140360"/>
                <a:ext cx="4927680" cy="15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o</m:t>
                    </m:r>
                    <m:r>
                      <m:t xml:space="preserve">&lt;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990000"/>
                </a:solidFill>
                <a:latin typeface="Arial Narrow"/>
              </a:rPr>
              <a:t>PDF – Alternative Interpretation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Narrow"/>
              </a:rPr>
              <a:t>The size of a sample of a probability density function indicates how likely a particular sample is to be found in the neighbourhood of a value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Narrow"/>
              </a:rPr>
              <a:t>A PDF must satisfy,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2873520" y="4419720"/>
                <a:ext cx="2906640" cy="15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  <m:r>
                          <m:t xml:space="preserve">do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990000"/>
                </a:solidFill>
                <a:latin typeface="Arial Narrow"/>
              </a:rPr>
              <a:t>PDF – Likelihoods and pdfs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38280" y="1262160"/>
            <a:ext cx="789624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n literature terms likelihood function and probability density function sometimes used incorrectly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DF can </a:t>
            </a:r>
            <a:r>
              <a:rPr b="1" lang="en-US" sz="3200" spc="-1" strike="noStrike">
                <a:solidFill>
                  <a:srgbClr val="66ff33"/>
                </a:solidFill>
                <a:latin typeface="Arial Narrow"/>
              </a:rPr>
              <a:t>always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be referred to as a likelihood function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However, likelihood function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cannot always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be referred to as an PDF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2971800" y="3886200"/>
                <a:ext cx="29844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)</m:t>
                    </m:r>
                    <m:acc>
                      <m:accPr>
                        <m:chr m:val="⃗"/>
                      </m:accPr>
                      <m:e/>
                    </m:acc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3048120" y="5638680"/>
                <a:ext cx="298440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)</m:t>
                    </m:r>
                    <m:acc>
                      <m:accPr>
                        <m:chr m:val="⃗"/>
                      </m:accPr>
                      <m:e/>
                    </m:acc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6" name=""/>
          <p:cNvSpPr/>
          <p:nvPr/>
        </p:nvSpPr>
        <p:spPr>
          <a:xfrm flipH="1">
            <a:off x="4190760" y="5715000"/>
            <a:ext cx="53316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191120" y="5715000"/>
            <a:ext cx="53316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PDF – Likelihoods and pdfs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n terms of class decisions they are identical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2133720" y="1981080"/>
                <a:ext cx="4114800" cy="141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1" name=""/>
          <p:cNvSpPr/>
          <p:nvPr/>
        </p:nvSpPr>
        <p:spPr>
          <a:xfrm>
            <a:off x="609480" y="3429000"/>
            <a:ext cx="830592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Likelihood functions do not have to integrate to un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When evaluating either function for an observati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990720" y="5638680"/>
                <a:ext cx="76197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sSup>
                          <m:e>
                            <m:r>
                              <m:t xml:space="preserve">o</m:t>
                            </m:r>
                          </m:e>
                          <m:sup/>
                        </m:sSup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sSup>
                          <m:e>
                            <m:r>
                              <m:t xml:space="preserve">o</m:t>
                            </m:r>
                          </m:e>
                          <m:sup/>
                        </m:sSup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kelihood score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Applications - Speaker verification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0120" y="2743200"/>
            <a:ext cx="739800" cy="1871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9" name=""/>
          <p:cNvSpPr/>
          <p:nvPr/>
        </p:nvSpPr>
        <p:spPr>
          <a:xfrm>
            <a:off x="2486160" y="441972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this Homer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87480" y="3352680"/>
            <a:ext cx="140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ahoma"/>
              </a:rPr>
              <a:t>2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91320" y="3809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50280" y="327672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Y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7800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N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2438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3809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828800" y="1219320"/>
            <a:ext cx="2732040" cy="204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PDF - Likelihoods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Unless otherwise specified, always refer to likelihood functions as they are more general than pdfs for classification purposes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Gaussian and Gaussian mixture models are all pdfs (i.e. integrate to unity)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Other complicated techniques cannot assume pdfs (e.g. HMMs, ANNs)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Gaussian distribution – Introduction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4495680" y="1066680"/>
            <a:ext cx="4321440" cy="541188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461952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any distributions Gaussian “bell” shaped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escribed totally by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order moments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hat is all information contained in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varianc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555240" y="609588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466760" y="487692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Gaussian distribution - Usefulness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aussian distributions are useful when trying to gather statistics about an training observation set.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Other distributions prone to errors, as they rely on higher order moments (i.e. skew, kurtosis)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ependent on outliers, that maybe erroneou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aussian distributions generalize well, using small amounts of observation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Gaussian distribution – Why?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aussian distributions are very common in natural phenomena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ue to central limit theorem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057400" y="30481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aggregate effect of a large number of small,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andom disturbances will lead to a Gaussian distributio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4648320"/>
            <a:ext cx="78962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ue to this effect many distributions can be approximated by a Gaussian, or mixture of Gaussians (GM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GMM – Introduction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914400" y="1046160"/>
            <a:ext cx="7748640" cy="581184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838080" y="1143000"/>
            <a:ext cx="3048120" cy="1828800"/>
          </a:xfrm>
          <a:prstGeom prst="irregularSeal2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Obviously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aussian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GMM – Fitting mixtures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1371600" y="1217520"/>
            <a:ext cx="7521480" cy="564048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-304920" y="838080"/>
            <a:ext cx="3505320" cy="1828800"/>
          </a:xfrm>
          <a:prstGeom prst="irregularSeal2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iece-wi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using a mixtur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auss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GMM – Aggregate effect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371600" y="1274760"/>
            <a:ext cx="7445520" cy="55832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-228600" y="762120"/>
            <a:ext cx="4114800" cy="1981080"/>
          </a:xfrm>
          <a:prstGeom prst="irregularSeal2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ggregate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its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well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990000"/>
                </a:solidFill>
                <a:latin typeface="Arial Narrow"/>
              </a:rPr>
              <a:t>GMM – Multidimensional analysis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896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 Narrow"/>
              </a:rPr>
              <a:t>Multi-dimensional analysis of features is important for improving source classification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 Narrow"/>
              </a:rPr>
              <a:t>More speaker dependent information can be extracted by modelling features using a multi-dimensional space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Narrow"/>
              </a:rPr>
              <a:t>Speech features are multidimensional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e. Each “sample” comprises of more than on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Multidimensional analysis is important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990000"/>
                </a:solidFill>
                <a:latin typeface="Arial Narrow"/>
              </a:rPr>
              <a:t>GMM – Multidimensional example 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17884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 Narrow"/>
              </a:rPr>
              <a:t>Multidimensional Gaussian distribution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219320" y="2154240"/>
          <a:ext cx="6933960" cy="47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154240"/>
                    <a:ext cx="6933960" cy="47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990000"/>
                </a:solidFill>
                <a:latin typeface="Arial Narrow"/>
              </a:rPr>
              <a:t>GMM – Multidimensional example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 Narrow"/>
              </a:rPr>
              <a:t>Multidimensional GMM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248520" cy="41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705720" y="3733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Applications – Modern System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889680" y="2895480"/>
                <a:ext cx="22543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&gt;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,  Accep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371600" y="182880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666880" y="30477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380988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3276720"/>
            <a:ext cx="1981080" cy="106668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-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342900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28954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388584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4419720"/>
            <a:ext cx="2514600" cy="91440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2133720"/>
            <a:ext cx="2514600" cy="91440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005600" y="4038480"/>
                <a:ext cx="21384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&lt;</m:t>
                    </m:r>
                    <m:r>
                      <m:t xml:space="preserve">θ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Rejec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6343920" y="2971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07280" y="41148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2732040" cy="204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990000"/>
                </a:solidFill>
                <a:latin typeface="Arial Narrow"/>
              </a:rPr>
              <a:t>GMM – 2-D Example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Narrow"/>
              </a:rPr>
              <a:t>By considering one dimension only, for each of the two feature element types, reveals a reasonable likelihood score with each 1-dimensional pdf model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990000"/>
                </a:solidFill>
                <a:latin typeface="Arial Narrow"/>
              </a:rPr>
              <a:t>GMM – 2-D example cont…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609480" y="1469880"/>
          <a:ext cx="7772400" cy="538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69880"/>
                    <a:ext cx="7772400" cy="53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990000"/>
                </a:solidFill>
                <a:latin typeface="Arial Narrow"/>
              </a:rPr>
              <a:t>GMM – 2-D example cont…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Narrow"/>
              </a:rPr>
              <a:t>In a 2-D space, this point has a relatively low likelihood. This would not be apparent using a single variable pdf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990000"/>
                </a:solidFill>
                <a:latin typeface="Arial Narrow"/>
              </a:rPr>
              <a:t>GMM – 2-D example cont..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685800" y="1460520"/>
          <a:ext cx="7696080" cy="53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60520"/>
                    <a:ext cx="769608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990000"/>
                </a:solidFill>
                <a:latin typeface="Arial Narrow"/>
              </a:rPr>
              <a:t>GMM – Definition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81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Narrow"/>
              </a:rPr>
              <a:t>The pdf is estimated by the summation of a set of weighted Gaussian distributions,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2133720" y="2438280"/>
                <a:ext cx="453708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|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68" name=""/>
          <p:cNvSpPr/>
          <p:nvPr/>
        </p:nvSpPr>
        <p:spPr>
          <a:xfrm>
            <a:off x="304920" y="3809880"/>
            <a:ext cx="5790960" cy="2590920"/>
          </a:xfrm>
          <a:prstGeom prst="flowChartAlternateProcess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no. of mix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mean of 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ixture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covariance of 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ixture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ixture component we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normal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248520" y="3809880"/>
            <a:ext cx="2514600" cy="21337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316560" y="3809880"/>
            <a:ext cx="26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ghtings m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isf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6781680" y="4724280"/>
                <a:ext cx="12956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990000"/>
                </a:solidFill>
                <a:latin typeface="Arial Narrow"/>
              </a:rPr>
              <a:t>GMM – Components of an GMM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698832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Narrow"/>
              </a:rPr>
              <a:t>The Estimation Phas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Narrow"/>
              </a:rPr>
              <a:t>The Evaluation Phas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990000"/>
                </a:solidFill>
                <a:latin typeface="Arial Narrow"/>
              </a:rPr>
              <a:t>GMM – Estimation (dilemma)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575" name=""/>
          <p:cNvSpPr/>
          <p:nvPr/>
        </p:nvSpPr>
        <p:spPr>
          <a:xfrm>
            <a:off x="2743200" y="1371600"/>
            <a:ext cx="3962520" cy="3200400"/>
          </a:xfrm>
          <a:prstGeom prst="irregularSeal2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ve to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alance 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pposing fo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04920" y="2971800"/>
            <a:ext cx="1828800" cy="2286000"/>
          </a:xfrm>
          <a:prstGeom prst="flowChartAlternateProcess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781680" y="2971800"/>
            <a:ext cx="2057400" cy="2286000"/>
          </a:xfrm>
          <a:prstGeom prst="flowChartAlternateProcess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600200" y="4191120"/>
            <a:ext cx="6172200" cy="1371600"/>
          </a:xfrm>
          <a:prstGeom prst="leftRightArrow">
            <a:avLst>
              <a:gd name="adj1" fmla="val 50000"/>
              <a:gd name="adj2" fmla="val 895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43360" y="3124080"/>
            <a:ext cx="2090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697440" y="2971800"/>
            <a:ext cx="233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.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GMM – Complexity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96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s complexity increases (i.e. no. of free parameters) the no. of training observations required increases at an 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approximately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exponential rate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1295280" y="2550960"/>
            <a:ext cx="7369200" cy="430704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3963600" y="6491160"/>
            <a:ext cx="26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. of free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rot="16200000">
            <a:off x="-47880" y="4418640"/>
            <a:ext cx="351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quired training 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990000"/>
                </a:solidFill>
                <a:latin typeface="Arial Narrow"/>
              </a:rPr>
              <a:t>GMM – A balance?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hese two opposing forces can reach some sort of equilibrium based on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. of training observations;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e of the problem domain (i.e. how well clustered the training observations ar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assumptions of independ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GMM – Tools for balancing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201160" cy="55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Balance found through a number of avenues,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spcBef>
                <a:spcPts val="799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ning no. of mix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799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assumptions about the covariance matrices of each mix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799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ing independence between different subsets of the feature space (i.e. high and low fequency band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799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iori assumptions about nature of model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.g. variance floors)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 Narrow"/>
              </a:rPr>
              <a:t>Applications - Text dependence/independence?</a:t>
            </a:r>
            <a:endParaRPr b="1" lang="en-US" sz="36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ependent on the level of user cooperation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an either be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ext dependent: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cognition system has prior knowledge of the text to be spo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ext independen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re is no prior knowledge by the system of the text to be spoken, such as extemporane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990000"/>
                </a:solidFill>
                <a:latin typeface="Arial Narrow"/>
              </a:rPr>
              <a:t>Balance – No. of mixtures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 Narrow"/>
              </a:rPr>
              <a:t>Selecting the no. of mixture componen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8520" indent="-30852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 Narrow"/>
              </a:rPr>
              <a:t>Model over-fitting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68520" indent="-257040"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Too many mixtures used for the observations the Gaussians were meant to descri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 Narrow"/>
              </a:rPr>
              <a:t>Model under-fitting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68520" indent="-257040"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Too few mixtures used to approximate the pdf for more complex observation distribu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 Narrow"/>
              </a:rPr>
              <a:t>It is imperative to select a suitable number of mixtures!!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2" name=""/>
          <p:cNvSpPr/>
          <p:nvPr/>
        </p:nvSpPr>
        <p:spPr>
          <a:xfrm>
            <a:off x="609480" y="16002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990000"/>
                </a:solidFill>
                <a:latin typeface="Arial Narrow"/>
              </a:rPr>
              <a:t>Balance – Overfitting example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990720" y="1219320"/>
          <a:ext cx="7772400" cy="501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19320"/>
                    <a:ext cx="777240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"/>
          <p:cNvSpPr/>
          <p:nvPr/>
        </p:nvSpPr>
        <p:spPr>
          <a:xfrm>
            <a:off x="5943600" y="3429000"/>
            <a:ext cx="457200" cy="12193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6400800" y="274320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781680" y="1219320"/>
            <a:ext cx="2362320" cy="2133360"/>
          </a:xfrm>
          <a:prstGeom prst="irregularSeal2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tart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ver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Balance – Covariance representations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MMs can take on a number of forms based on the form their covariance matrices take on.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wo most common are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covariance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onal covari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4648320" y="1447920"/>
            <a:ext cx="4114800" cy="25146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80880" y="1447920"/>
            <a:ext cx="4114800" cy="25146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Covariance representations – example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762120" y="1676520"/>
                <a:ext cx="356220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4952880" y="1676520"/>
                <a:ext cx="352908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6" name=""/>
          <p:cNvSpPr/>
          <p:nvPr/>
        </p:nvSpPr>
        <p:spPr>
          <a:xfrm>
            <a:off x="1154880" y="99072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ll co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155560" y="99072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iagonal co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1295280" y="5791320"/>
                <a:ext cx="27432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∝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6248520" y="5715000"/>
                <a:ext cx="18050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∝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0" name=""/>
          <p:cNvSpPr/>
          <p:nvPr/>
        </p:nvSpPr>
        <p:spPr>
          <a:xfrm>
            <a:off x="5513400" y="4089240"/>
            <a:ext cx="291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zeros in off diagonal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752480" y="4876920"/>
            <a:ext cx="5791320" cy="53316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o. of free parameters (i.e. O(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Balance – Covariance representations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n speech applications it has been shown empirically that diagonal covariance matrices achieve better performance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omputationally less expensive as the inverse of a diagonal matrix is the inverse of the elements along the diagonal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Balance – Assumptions of independence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896240" cy="21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ssuming independence between subsets of feature space, can aid in effective model estimation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uch that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1600200" y="3048120"/>
                <a:ext cx="59180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|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o</m:t>
                        </m:r>
                      </m:e>
                      <m:sup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sup>
                    </m:sSup>
                    <m:r>
                      <m:t xml:space="preserve">|</m:t>
                    </m:r>
                    <m:sSup>
                      <m:e>
                        <m:r>
                          <m:t xml:space="preserve">λ</m:t>
                        </m:r>
                      </m:e>
                      <m:sup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sup>
                    </m:sSup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o</m:t>
                        </m:r>
                      </m:e>
                      <m:sup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sup>
                    </m:sSup>
                    <m:r>
                      <m:t xml:space="preserve">|</m:t>
                    </m:r>
                    <m:sSup>
                      <m:e>
                        <m:r>
                          <m:t xml:space="preserve">λ</m:t>
                        </m:r>
                      </m:e>
                      <m:sup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762120" y="3657600"/>
            <a:ext cx="78962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where the feature space has been segmented such tha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[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{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{2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pproximation is valid in the presence of narrow band no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im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{1}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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{2}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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Balance – A priori assumptions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Often no of training observations is still too small to create a suitably complex model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an restrict the values that parameters in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can take on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alled Maximum a posteriori (MAP) estimation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Simple example is variance flooring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Assumptions – Variance flooring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When evaluating an Gaussian need to find the inverse of the covariance matrix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f there are not enough linearly separable observations the covariance matrix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will be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singular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(i.e. determinant of zero)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an circumvent this problem by forcing main diagonals o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to be above a variance floor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2514600" y="4648320"/>
                <a:ext cx="4343400" cy="13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xy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,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f 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xy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&gt;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in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in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f 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xy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≤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in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3" name=""/>
          <p:cNvSpPr/>
          <p:nvPr/>
        </p:nvSpPr>
        <p:spPr>
          <a:xfrm>
            <a:off x="7280280" y="4724280"/>
            <a:ext cx="130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ore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AP lat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576080" y="6097680"/>
            <a:ext cx="60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Has been shown empirically to work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GMM – Parameter Estimation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How do we find values o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wo techniques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um likelihood (ML) esti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um a posteriori (MAP) esti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ost of the time these techniques are identical if a non-informative prior is assumed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hat is,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is allowed to take on any value as there is no evidence to the contrary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GMM – ML Estimation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896240" cy="24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iven N classes (i.e. speakers), with N observations set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{i}</a:t>
            </a: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one assumes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2666880" y="2438280"/>
                <a:ext cx="351792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i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0" name=""/>
          <p:cNvSpPr/>
          <p:nvPr/>
        </p:nvSpPr>
        <p:spPr>
          <a:xfrm flipV="1">
            <a:off x="38862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222720" y="335268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drawn fro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09480" y="3809880"/>
            <a:ext cx="789624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38080" y="3962520"/>
            <a:ext cx="789624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One can assume 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independence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between classes so abandon class not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blem is to find parametric form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rom just the observation se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Applications - Text dependence?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Arial Narrow"/>
              </a:rPr>
              <a:t>Benefits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SzPct val="7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better performance, as task is constra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SzPct val="75000"/>
              <a:buFont typeface="Tahoma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 comes from constraining speech so comparisons can be made on how speakers make specific sounds, rather than allowing for large textual vari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SzPct val="7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security (as imposters cannot present recorded ubiquitous speech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GMM – ML Estimation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3505320" y="1905120"/>
                <a:ext cx="16002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Only have a finite numb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of observations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7" name=""/>
          <p:cNvSpPr/>
          <p:nvPr/>
        </p:nvSpPr>
        <p:spPr>
          <a:xfrm>
            <a:off x="609480" y="2666880"/>
            <a:ext cx="789624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L estimat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is the one that maximiz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2971800" y="3276720"/>
                <a:ext cx="32068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λ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9" name=""/>
          <p:cNvSpPr/>
          <p:nvPr/>
        </p:nvSpPr>
        <p:spPr>
          <a:xfrm>
            <a:off x="609480" y="3962520"/>
            <a:ext cx="78962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Which is equivalent to, due to the assumption of independ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2743200" y="4952880"/>
                <a:ext cx="429732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λ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</m:nary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990000"/>
                </a:solidFill>
                <a:latin typeface="Arial Narrow"/>
              </a:rPr>
              <a:t>Estimation – EM algorithm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Narrow"/>
              </a:rPr>
              <a:t>An GMM is determined by an iterative process termed the expectation maximization (EM) algorithm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Narrow"/>
              </a:rPr>
              <a:t>It uses an old estimate of the model parameters and provides a better guess for the next cycle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Narrow"/>
              </a:rPr>
              <a:t>This “improve on the previous guess” process repeats until the algorithm finds a local optimum (ie. it converges)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990000"/>
                </a:solidFill>
                <a:latin typeface="Arial Narrow"/>
              </a:rPr>
              <a:t>GMM – Estimation convergence</a:t>
            </a:r>
            <a:endParaRPr b="1" lang="en-US" sz="3600" spc="-1" strike="noStrike">
              <a:solidFill>
                <a:srgbClr val="990000"/>
              </a:solidFill>
              <a:latin typeface="Arial Narrow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762120" y="1371600"/>
          <a:ext cx="7619760" cy="50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71600"/>
                    <a:ext cx="7619760" cy="50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 Narrow"/>
              </a:rPr>
              <a:t>GMM - Initialization</a:t>
            </a:r>
            <a:endParaRPr b="1" lang="en-US" sz="36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s the EM algorithm is iterative, so is dependent on the initial gues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Number of approaches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eeding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-means clustering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tstrapp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sults are not too dependent on initialization, but k-means clustering tends to be most robust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990000"/>
                </a:solidFill>
                <a:latin typeface="Arial Narrow"/>
              </a:rPr>
              <a:t>GMM – Evaluation</a:t>
            </a:r>
            <a:endParaRPr b="1" lang="en-US" sz="36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89624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Narrow"/>
              </a:rPr>
              <a:t>Speaker verification is a two class problem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Narrow"/>
              </a:rPr>
              <a:t>Distinguish between client and background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1752480" y="3809880"/>
                <a:ext cx="5867640" cy="21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pkr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spkr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bck</m:t>
                          </m:r>
                        </m:e>
                      </m:mr>
                    </m:m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6705720" y="3733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Speaker verification task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6889680" y="2895480"/>
                <a:ext cx="22543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&gt;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,  Accep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4" name=""/>
          <p:cNvSpPr/>
          <p:nvPr/>
        </p:nvSpPr>
        <p:spPr>
          <a:xfrm>
            <a:off x="1371600" y="182880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2666880" y="30477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666880" y="380988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62120" y="3276720"/>
            <a:ext cx="1981080" cy="106668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-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172200" y="342900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562720" y="28954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5486400" y="388584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200400" y="4419720"/>
            <a:ext cx="2514600" cy="91440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200400" y="2133720"/>
            <a:ext cx="2514600" cy="91440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7005600" y="4038480"/>
                <a:ext cx="21384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&lt;</m:t>
                    </m:r>
                    <m:r>
                      <m:t xml:space="preserve">θ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Rejec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4" name=""/>
          <p:cNvSpPr/>
          <p:nvPr/>
        </p:nvSpPr>
        <p:spPr>
          <a:xfrm>
            <a:off x="6343920" y="2971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407280" y="41148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2732040" cy="204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GMM – Background models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Narrow"/>
              </a:rPr>
              <a:t>Background speaker modelling is the process of using non-target speaker speech to develop a series of comparative models to normalise the target speaker scores by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Have to model background “impostors”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wo approaches,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ld background mode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of background mod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990000"/>
                </a:solidFill>
                <a:latin typeface="Arial Narrow"/>
              </a:rPr>
              <a:t>Background – Why use?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89624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Narrow"/>
              </a:rPr>
              <a:t>Improves performance in comparison to direct likelihood thresholding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Narrow"/>
              </a:rPr>
              <a:t>It is more robust to additive noise and channel effects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Narrow"/>
              </a:rPr>
              <a:t>It is a form of speaker normalisation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990000"/>
                </a:solidFill>
                <a:latin typeface="Arial Narrow"/>
              </a:rPr>
              <a:t>Background – Why use?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1"/>
          <a:stretch/>
        </p:blipFill>
        <p:spPr>
          <a:xfrm>
            <a:off x="380880" y="646200"/>
            <a:ext cx="8283600" cy="621180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>
            <a:off x="2447640" y="62784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733640" y="62784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-685800" y="533520"/>
            <a:ext cx="6477120" cy="3733560"/>
          </a:xfrm>
          <a:prstGeom prst="irregularSeal2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out imposte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rece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ame likelihood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96720" y="533160"/>
            <a:ext cx="8747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Background – Set of background models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677" name=""/>
          <p:cNvSpPr/>
          <p:nvPr/>
        </p:nvSpPr>
        <p:spPr>
          <a:xfrm>
            <a:off x="518760" y="1422360"/>
            <a:ext cx="21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peech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ubpopula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82200" y="3962520"/>
            <a:ext cx="21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peech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ubpopula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895480" y="29718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457200" y="4724280"/>
            <a:ext cx="2612520" cy="1600200"/>
            <a:chOff x="457200" y="4724280"/>
            <a:chExt cx="2612520" cy="1600200"/>
          </a:xfrm>
        </p:grpSpPr>
        <p:sp>
          <p:nvSpPr>
            <p:cNvPr id="681" name=""/>
            <p:cNvSpPr/>
            <p:nvPr/>
          </p:nvSpPr>
          <p:spPr>
            <a:xfrm>
              <a:off x="566640" y="4724280"/>
              <a:ext cx="2437920" cy="1600200"/>
            </a:xfrm>
            <a:prstGeom prst="flowChartAlternateProcess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2" name="" descr=""/>
            <p:cNvPicPr/>
            <p:nvPr/>
          </p:nvPicPr>
          <p:blipFill>
            <a:blip r:embed="rId1"/>
            <a:stretch/>
          </p:blipFill>
          <p:spPr>
            <a:xfrm>
              <a:off x="457200" y="4724280"/>
              <a:ext cx="185076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" descr=""/>
            <p:cNvPicPr/>
            <p:nvPr/>
          </p:nvPicPr>
          <p:blipFill>
            <a:blip r:embed="rId2"/>
            <a:stretch/>
          </p:blipFill>
          <p:spPr>
            <a:xfrm>
              <a:off x="838080" y="5257440"/>
              <a:ext cx="185040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" descr=""/>
            <p:cNvPicPr/>
            <p:nvPr/>
          </p:nvPicPr>
          <p:blipFill>
            <a:blip r:embed="rId3"/>
            <a:stretch/>
          </p:blipFill>
          <p:spPr>
            <a:xfrm>
              <a:off x="1218960" y="5714640"/>
              <a:ext cx="1850760" cy="60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"/>
          <p:cNvGrpSpPr/>
          <p:nvPr/>
        </p:nvGrpSpPr>
        <p:grpSpPr>
          <a:xfrm>
            <a:off x="423720" y="2286000"/>
            <a:ext cx="2613240" cy="1600200"/>
            <a:chOff x="423720" y="2286000"/>
            <a:chExt cx="2613240" cy="1600200"/>
          </a:xfrm>
        </p:grpSpPr>
        <p:sp>
          <p:nvSpPr>
            <p:cNvPr id="686" name=""/>
            <p:cNvSpPr/>
            <p:nvPr/>
          </p:nvSpPr>
          <p:spPr>
            <a:xfrm>
              <a:off x="533520" y="2286000"/>
              <a:ext cx="2438280" cy="1600200"/>
            </a:xfrm>
            <a:prstGeom prst="flowChartAlternateProcess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7" name="" descr=""/>
            <p:cNvPicPr/>
            <p:nvPr/>
          </p:nvPicPr>
          <p:blipFill>
            <a:blip r:embed="rId4"/>
            <a:stretch/>
          </p:blipFill>
          <p:spPr>
            <a:xfrm>
              <a:off x="423720" y="2286000"/>
              <a:ext cx="18511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" descr=""/>
            <p:cNvPicPr/>
            <p:nvPr/>
          </p:nvPicPr>
          <p:blipFill>
            <a:blip r:embed="rId5"/>
            <a:stretch/>
          </p:blipFill>
          <p:spPr>
            <a:xfrm>
              <a:off x="804960" y="2819520"/>
              <a:ext cx="185076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" descr=""/>
            <p:cNvPicPr/>
            <p:nvPr/>
          </p:nvPicPr>
          <p:blipFill>
            <a:blip r:embed="rId6"/>
            <a:stretch/>
          </p:blipFill>
          <p:spPr>
            <a:xfrm>
              <a:off x="1185840" y="3276720"/>
              <a:ext cx="185112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0" name=""/>
          <p:cNvSpPr/>
          <p:nvPr/>
        </p:nvSpPr>
        <p:spPr>
          <a:xfrm>
            <a:off x="8315640" y="3505320"/>
            <a:ext cx="799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b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971800" y="54864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25780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791320" y="30481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791320" y="42670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2578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505320" y="4876920"/>
            <a:ext cx="1981080" cy="1218960"/>
          </a:xfrm>
          <a:prstGeom prst="flowChartAlternateProcess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429000" y="2438280"/>
            <a:ext cx="1981080" cy="1219320"/>
          </a:xfrm>
          <a:prstGeom prst="flowChartAlternateProcess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324480" y="3657600"/>
            <a:ext cx="1752840" cy="121932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8077320" y="42670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828040" y="2362320"/>
            <a:ext cx="9338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sub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905800" y="5181480"/>
            <a:ext cx="9338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sub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Applications - Text dependence?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 Narrow"/>
              </a:rPr>
              <a:t>Cons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SzPct val="7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accurately transcribed spee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SzPct val="7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akers have to cooperatively speak the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SzPct val="7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also model dynamic nature of spee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96720" y="533160"/>
            <a:ext cx="8747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Background – World background model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703" name=""/>
          <p:cNvSpPr/>
          <p:nvPr/>
        </p:nvSpPr>
        <p:spPr>
          <a:xfrm>
            <a:off x="4724280" y="3581280"/>
            <a:ext cx="1981440" cy="1219320"/>
          </a:xfrm>
          <a:prstGeom prst="flowChartAlternateProcess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204560" y="1346040"/>
            <a:ext cx="21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peech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ubpopula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368000" y="3886200"/>
            <a:ext cx="21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peech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ubpopula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5812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743200" y="54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114800" y="29718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114800" y="41911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143000" y="4648320"/>
            <a:ext cx="2612520" cy="1600200"/>
            <a:chOff x="1143000" y="4648320"/>
            <a:chExt cx="2612520" cy="1600200"/>
          </a:xfrm>
        </p:grpSpPr>
        <p:sp>
          <p:nvSpPr>
            <p:cNvPr id="711" name=""/>
            <p:cNvSpPr/>
            <p:nvPr/>
          </p:nvSpPr>
          <p:spPr>
            <a:xfrm>
              <a:off x="1252440" y="4648320"/>
              <a:ext cx="2437920" cy="1600200"/>
            </a:xfrm>
            <a:prstGeom prst="flowChartAlternateProcess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2" name="" descr=""/>
            <p:cNvPicPr/>
            <p:nvPr/>
          </p:nvPicPr>
          <p:blipFill>
            <a:blip r:embed="rId1"/>
            <a:stretch/>
          </p:blipFill>
          <p:spPr>
            <a:xfrm>
              <a:off x="1143000" y="4648320"/>
              <a:ext cx="185076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" descr=""/>
            <p:cNvPicPr/>
            <p:nvPr/>
          </p:nvPicPr>
          <p:blipFill>
            <a:blip r:embed="rId2"/>
            <a:stretch/>
          </p:blipFill>
          <p:spPr>
            <a:xfrm>
              <a:off x="1523880" y="5181480"/>
              <a:ext cx="185040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" descr=""/>
            <p:cNvPicPr/>
            <p:nvPr/>
          </p:nvPicPr>
          <p:blipFill>
            <a:blip r:embed="rId3"/>
            <a:stretch/>
          </p:blipFill>
          <p:spPr>
            <a:xfrm>
              <a:off x="1904760" y="5638680"/>
              <a:ext cx="1850760" cy="60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5" name=""/>
          <p:cNvGrpSpPr/>
          <p:nvPr/>
        </p:nvGrpSpPr>
        <p:grpSpPr>
          <a:xfrm>
            <a:off x="1109520" y="2209680"/>
            <a:ext cx="2613240" cy="1600200"/>
            <a:chOff x="1109520" y="2209680"/>
            <a:chExt cx="2613240" cy="1600200"/>
          </a:xfrm>
        </p:grpSpPr>
        <p:sp>
          <p:nvSpPr>
            <p:cNvPr id="716" name=""/>
            <p:cNvSpPr/>
            <p:nvPr/>
          </p:nvSpPr>
          <p:spPr>
            <a:xfrm>
              <a:off x="1219320" y="2209680"/>
              <a:ext cx="2438280" cy="1600200"/>
            </a:xfrm>
            <a:prstGeom prst="flowChartAlternateProcess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7" name="" descr=""/>
            <p:cNvPicPr/>
            <p:nvPr/>
          </p:nvPicPr>
          <p:blipFill>
            <a:blip r:embed="rId4"/>
            <a:stretch/>
          </p:blipFill>
          <p:spPr>
            <a:xfrm>
              <a:off x="1109520" y="2209680"/>
              <a:ext cx="18511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" descr=""/>
            <p:cNvPicPr/>
            <p:nvPr/>
          </p:nvPicPr>
          <p:blipFill>
            <a:blip r:embed="rId5"/>
            <a:stretch/>
          </p:blipFill>
          <p:spPr>
            <a:xfrm>
              <a:off x="1490760" y="2743200"/>
              <a:ext cx="185076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" descr=""/>
            <p:cNvPicPr/>
            <p:nvPr/>
          </p:nvPicPr>
          <p:blipFill>
            <a:blip r:embed="rId6"/>
            <a:stretch/>
          </p:blipFill>
          <p:spPr>
            <a:xfrm>
              <a:off x="1871640" y="3200400"/>
              <a:ext cx="185112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0" name=""/>
          <p:cNvSpPr/>
          <p:nvPr/>
        </p:nvSpPr>
        <p:spPr>
          <a:xfrm>
            <a:off x="6705720" y="419112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572600" y="3733920"/>
            <a:ext cx="799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b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Background – Subpopulations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82008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ubpopulations can be considered as complicated as individual speakers (cohorts), or as simple as sex (male/female)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mpirically it has been shown that UBMs tend to perform better and are simpler, although some separation is useful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One has to be careful that observations are pooled evenly across all subpopulation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ohorts have the advantage of creating a more discriminant background model.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990000"/>
                </a:solidFill>
                <a:latin typeface="Arial Narrow"/>
              </a:rPr>
              <a:t>Background - Considerations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 Narrow"/>
              </a:rPr>
              <a:t>Usually should compare against same gender speaker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81160" indent="-28116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 Narrow"/>
              </a:rPr>
              <a:t>Same language as the background speaker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81160" indent="-28116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 Narrow"/>
              </a:rPr>
              <a:t>Similar noise and environmental condition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81160" indent="-28116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 Narrow"/>
              </a:rPr>
              <a:t>Number of background speaker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1371600" y="1905120"/>
            <a:ext cx="6934320" cy="2590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estions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 txBox="1"/>
          <p:nvPr/>
        </p:nvSpPr>
        <p:spPr>
          <a:xfrm>
            <a:off x="2133720" y="1905120"/>
            <a:ext cx="4724280" cy="2590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reak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 txBox="1"/>
          <p:nvPr/>
        </p:nvSpPr>
        <p:spPr>
          <a:xfrm>
            <a:off x="914400" y="1066680"/>
            <a:ext cx="7772400" cy="4648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eak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odeling I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Speaker modeling – Text dependence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p until now talking about the text independent task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or text-dependent case observations have been produced by a hidden proces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an no longer assume independence between adjacent observations in an utterance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2666880" y="4648320"/>
                <a:ext cx="32004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|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≠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nary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Dependence - Approaches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Number of approaches have been employed to model temporal dependence of speech,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lat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time war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924560" y="518328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ncentrate on HMM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Approaches – Templates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640720" cy="182880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4495680" y="3429000"/>
            <a:ext cx="533520" cy="762120"/>
          </a:xfrm>
          <a:prstGeom prst="downArrow">
            <a:avLst>
              <a:gd name="adj1" fmla="val 50000"/>
              <a:gd name="adj2" fmla="val 3571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838960" y="3581280"/>
            <a:ext cx="14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228600" y="4343400"/>
            <a:ext cx="8640720" cy="224964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4998240" y="3581280"/>
            <a:ext cx="32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distance 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912040" y="1219320"/>
            <a:ext cx="33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Known speaker saying “0-1-2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071160" y="649116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Unknown speaker saying “0-1-2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Approaches - Templates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tterances are usually different length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assical approach is to linearly stretch or compress utterance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lawed approach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accurate end-point identif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not allow for time variation within a 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0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Applications - Text independence?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896240" cy="49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Arial Narrow"/>
              </a:rPr>
              <a:t>Benefits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SzPct val="7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ch more flexible, can be used for extemporaneous spee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SzPct val="7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have to model dynamic nature of speech (computational advantag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SzPct val="7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ior to text dependent applications when no transcription available, or transcription is errone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Approaches – Dynamic time warping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ynamic time warping tries to non-linearly match a template to minimize a cost function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quires the computation of an warping function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an be viewed as an dynamic programming problem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an be solved using Viterbi decoding (discuss soon)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4038480" y="24382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752480" y="1219320"/>
            <a:ext cx="4496040" cy="1676160"/>
          </a:xfrm>
          <a:prstGeom prst="irregularSeal2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Approaches – Dynamic time warping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304920" y="5562720"/>
            <a:ext cx="9219960" cy="76176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2"/>
          <a:stretch/>
        </p:blipFill>
        <p:spPr>
          <a:xfrm rot="16200000">
            <a:off x="-1512000" y="3264480"/>
            <a:ext cx="5462640" cy="76212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1676520" y="1308240"/>
            <a:ext cx="7137360" cy="4178160"/>
          </a:xfrm>
          <a:custGeom>
            <a:avLst/>
            <a:gdLst/>
            <a:ahLst/>
            <a:rect l="l" t="t" r="r" b="b"/>
            <a:pathLst>
              <a:path w="4496" h="2632">
                <a:moveTo>
                  <a:pt x="0" y="2632"/>
                </a:moveTo>
                <a:cubicBezTo>
                  <a:pt x="132" y="2608"/>
                  <a:pt x="264" y="2584"/>
                  <a:pt x="432" y="2488"/>
                </a:cubicBezTo>
                <a:cubicBezTo>
                  <a:pt x="600" y="2392"/>
                  <a:pt x="832" y="2248"/>
                  <a:pt x="1008" y="2056"/>
                </a:cubicBezTo>
                <a:cubicBezTo>
                  <a:pt x="1184" y="1864"/>
                  <a:pt x="1280" y="1504"/>
                  <a:pt x="1488" y="1336"/>
                </a:cubicBezTo>
                <a:cubicBezTo>
                  <a:pt x="1696" y="1168"/>
                  <a:pt x="2000" y="1176"/>
                  <a:pt x="2256" y="1048"/>
                </a:cubicBezTo>
                <a:cubicBezTo>
                  <a:pt x="2512" y="920"/>
                  <a:pt x="2688" y="728"/>
                  <a:pt x="3024" y="568"/>
                </a:cubicBezTo>
                <a:cubicBezTo>
                  <a:pt x="3360" y="408"/>
                  <a:pt x="4048" y="176"/>
                  <a:pt x="4272" y="88"/>
                </a:cubicBezTo>
                <a:cubicBezTo>
                  <a:pt x="4496" y="0"/>
                  <a:pt x="4432" y="20"/>
                  <a:pt x="4368" y="4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647800" y="1600200"/>
            <a:ext cx="26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Warpin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to alig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Templates - Problems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nalogous to the nearest-neighbor approach used for the text-independent case.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oes not effectively model fluctuation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ecomes problematic with large amounts of utterances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age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quire some sort of statistical approach.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HMMs - Introduction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an consider temporal speech a hidden Markov proces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ferred to as “hidden” as the internal states of the process cannot be observed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Have to be determined from training observations and a priori knowledge.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seful for modeling speech, as each state can be assumed to “roughly” correspond to a phonemic event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Markov model – What is?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arkov model is a finite state machine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arkov process may be described as being in N discrete state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iscrete states in a Markov model are represented by nodes and, the transition probabiliti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y link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Markov model – Example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553080" cy="43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HMM – Coin example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 series of coin tossing experiments is performed. The number of coins is unknown; only the results of each coin toss are revealed. Thus a typical observation sequence is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2286000" y="3809880"/>
                <a:ext cx="380376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m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</m:mr>
                            <m:mr>
                              <m:e/>
                            </m:mr>
                          </m:m>
                          <m:m>
                            <m:mr>
                              <m:e/>
                            </m:mr>
                            <m:mr>
                              <m:e/>
                            </m:mr>
                          </m:m>
                        </m:e>
                        <m:e>
                          <m:m>
                            <m:mr>
                              <m:e>
                                <m:r>
                                  <m:t xml:space="preserve">[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…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]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…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]</m:t>
                                </m:r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765" name=""/>
          <p:cNvSpPr/>
          <p:nvPr/>
        </p:nvSpPr>
        <p:spPr>
          <a:xfrm>
            <a:off x="194760" y="5638680"/>
            <a:ext cx="90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oblem: Build an HMM to explain the observation sequence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HMM – 1 Coin example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767" name=""/>
          <p:cNvSpPr/>
          <p:nvPr/>
        </p:nvSpPr>
        <p:spPr>
          <a:xfrm rot="1601400">
            <a:off x="2895480" y="2209320"/>
            <a:ext cx="571680" cy="635040"/>
          </a:xfrm>
          <a:custGeom>
            <a:avLst/>
            <a:gdLst/>
            <a:ahLst/>
            <a:rect l="l" t="t" r="r" b="b"/>
            <a:pathLst>
              <a:path w="360" h="400">
                <a:moveTo>
                  <a:pt x="160" y="400"/>
                </a:moveTo>
                <a:cubicBezTo>
                  <a:pt x="96" y="356"/>
                  <a:pt x="32" y="312"/>
                  <a:pt x="16" y="256"/>
                </a:cubicBezTo>
                <a:cubicBezTo>
                  <a:pt x="0" y="200"/>
                  <a:pt x="32" y="104"/>
                  <a:pt x="64" y="64"/>
                </a:cubicBezTo>
                <a:cubicBezTo>
                  <a:pt x="96" y="24"/>
                  <a:pt x="160" y="0"/>
                  <a:pt x="208" y="16"/>
                </a:cubicBezTo>
                <a:cubicBezTo>
                  <a:pt x="256" y="32"/>
                  <a:pt x="344" y="104"/>
                  <a:pt x="352" y="160"/>
                </a:cubicBezTo>
                <a:cubicBezTo>
                  <a:pt x="360" y="216"/>
                  <a:pt x="272" y="320"/>
                  <a:pt x="256" y="3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743200" y="27432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rot="1601400">
            <a:off x="5105520" y="2209680"/>
            <a:ext cx="571320" cy="635040"/>
          </a:xfrm>
          <a:custGeom>
            <a:avLst/>
            <a:gdLst/>
            <a:ahLst/>
            <a:rect l="l" t="t" r="r" b="b"/>
            <a:pathLst>
              <a:path w="360" h="400">
                <a:moveTo>
                  <a:pt x="160" y="400"/>
                </a:moveTo>
                <a:cubicBezTo>
                  <a:pt x="96" y="356"/>
                  <a:pt x="32" y="312"/>
                  <a:pt x="16" y="256"/>
                </a:cubicBezTo>
                <a:cubicBezTo>
                  <a:pt x="0" y="200"/>
                  <a:pt x="32" y="104"/>
                  <a:pt x="64" y="64"/>
                </a:cubicBezTo>
                <a:cubicBezTo>
                  <a:pt x="96" y="24"/>
                  <a:pt x="160" y="0"/>
                  <a:pt x="208" y="16"/>
                </a:cubicBezTo>
                <a:cubicBezTo>
                  <a:pt x="256" y="32"/>
                  <a:pt x="344" y="104"/>
                  <a:pt x="352" y="160"/>
                </a:cubicBezTo>
                <a:cubicBezTo>
                  <a:pt x="360" y="216"/>
                  <a:pt x="272" y="320"/>
                  <a:pt x="256" y="3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rot="10800000">
            <a:off x="3352320" y="3124080"/>
            <a:ext cx="1676520" cy="533520"/>
          </a:xfrm>
          <a:custGeom>
            <a:avLst/>
            <a:gdLst/>
            <a:ahLst/>
            <a:rect l="l" t="t" r="r" b="b"/>
            <a:pathLst>
              <a:path w="1056" h="336">
                <a:moveTo>
                  <a:pt x="0" y="336"/>
                </a:moveTo>
                <a:cubicBezTo>
                  <a:pt x="72" y="244"/>
                  <a:pt x="144" y="152"/>
                  <a:pt x="240" y="96"/>
                </a:cubicBezTo>
                <a:cubicBezTo>
                  <a:pt x="336" y="40"/>
                  <a:pt x="464" y="0"/>
                  <a:pt x="576" y="0"/>
                </a:cubicBezTo>
                <a:cubicBezTo>
                  <a:pt x="688" y="0"/>
                  <a:pt x="832" y="56"/>
                  <a:pt x="912" y="96"/>
                </a:cubicBezTo>
                <a:cubicBezTo>
                  <a:pt x="992" y="136"/>
                  <a:pt x="1032" y="216"/>
                  <a:pt x="1056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952880" y="27432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429000" y="2514600"/>
            <a:ext cx="1676520" cy="533520"/>
          </a:xfrm>
          <a:custGeom>
            <a:avLst/>
            <a:gdLst/>
            <a:ahLst/>
            <a:rect l="l" t="t" r="r" b="b"/>
            <a:pathLst>
              <a:path w="1056" h="336">
                <a:moveTo>
                  <a:pt x="0" y="336"/>
                </a:moveTo>
                <a:cubicBezTo>
                  <a:pt x="72" y="244"/>
                  <a:pt x="144" y="152"/>
                  <a:pt x="240" y="96"/>
                </a:cubicBezTo>
                <a:cubicBezTo>
                  <a:pt x="336" y="40"/>
                  <a:pt x="464" y="0"/>
                  <a:pt x="576" y="0"/>
                </a:cubicBezTo>
                <a:cubicBezTo>
                  <a:pt x="688" y="0"/>
                  <a:pt x="832" y="56"/>
                  <a:pt x="912" y="96"/>
                </a:cubicBezTo>
                <a:cubicBezTo>
                  <a:pt x="992" y="136"/>
                  <a:pt x="1032" y="216"/>
                  <a:pt x="1056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893680" y="2819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103720" y="2819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571120" y="373392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796640" y="37339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821320" y="1676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735720" y="3048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903560" y="16765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-P(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659040" y="1981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-P(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360880" y="4952880"/>
            <a:ext cx="41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=[H,H,H,T,T,H,T,T,T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=[1,1,1,2,2,1,2,2,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791320" y="1523880"/>
            <a:ext cx="3047760" cy="2590920"/>
          </a:xfrm>
          <a:prstGeom prst="irregularSeal2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et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ple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HMM – 2 Coin example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784" name=""/>
          <p:cNvSpPr/>
          <p:nvPr/>
        </p:nvSpPr>
        <p:spPr>
          <a:xfrm rot="1601400">
            <a:off x="2840040" y="1600200"/>
            <a:ext cx="571320" cy="635040"/>
          </a:xfrm>
          <a:custGeom>
            <a:avLst/>
            <a:gdLst/>
            <a:ahLst/>
            <a:rect l="l" t="t" r="r" b="b"/>
            <a:pathLst>
              <a:path w="360" h="400">
                <a:moveTo>
                  <a:pt x="160" y="400"/>
                </a:moveTo>
                <a:cubicBezTo>
                  <a:pt x="96" y="356"/>
                  <a:pt x="32" y="312"/>
                  <a:pt x="16" y="256"/>
                </a:cubicBezTo>
                <a:cubicBezTo>
                  <a:pt x="0" y="200"/>
                  <a:pt x="32" y="104"/>
                  <a:pt x="64" y="64"/>
                </a:cubicBezTo>
                <a:cubicBezTo>
                  <a:pt x="96" y="24"/>
                  <a:pt x="160" y="0"/>
                  <a:pt x="208" y="16"/>
                </a:cubicBezTo>
                <a:cubicBezTo>
                  <a:pt x="256" y="32"/>
                  <a:pt x="344" y="104"/>
                  <a:pt x="352" y="160"/>
                </a:cubicBezTo>
                <a:cubicBezTo>
                  <a:pt x="360" y="216"/>
                  <a:pt x="272" y="320"/>
                  <a:pt x="256" y="3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687760" y="21337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rot="1601400">
            <a:off x="5049720" y="1599840"/>
            <a:ext cx="571680" cy="635040"/>
          </a:xfrm>
          <a:custGeom>
            <a:avLst/>
            <a:gdLst/>
            <a:ahLst/>
            <a:rect l="l" t="t" r="r" b="b"/>
            <a:pathLst>
              <a:path w="360" h="400">
                <a:moveTo>
                  <a:pt x="160" y="400"/>
                </a:moveTo>
                <a:cubicBezTo>
                  <a:pt x="96" y="356"/>
                  <a:pt x="32" y="312"/>
                  <a:pt x="16" y="256"/>
                </a:cubicBezTo>
                <a:cubicBezTo>
                  <a:pt x="0" y="200"/>
                  <a:pt x="32" y="104"/>
                  <a:pt x="64" y="64"/>
                </a:cubicBezTo>
                <a:cubicBezTo>
                  <a:pt x="96" y="24"/>
                  <a:pt x="160" y="0"/>
                  <a:pt x="208" y="16"/>
                </a:cubicBezTo>
                <a:cubicBezTo>
                  <a:pt x="256" y="32"/>
                  <a:pt x="344" y="104"/>
                  <a:pt x="352" y="160"/>
                </a:cubicBezTo>
                <a:cubicBezTo>
                  <a:pt x="360" y="216"/>
                  <a:pt x="272" y="320"/>
                  <a:pt x="256" y="3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rot="10800000">
            <a:off x="3296880" y="2514600"/>
            <a:ext cx="1676520" cy="533520"/>
          </a:xfrm>
          <a:custGeom>
            <a:avLst/>
            <a:gdLst/>
            <a:ahLst/>
            <a:rect l="l" t="t" r="r" b="b"/>
            <a:pathLst>
              <a:path w="1056" h="336">
                <a:moveTo>
                  <a:pt x="0" y="336"/>
                </a:moveTo>
                <a:cubicBezTo>
                  <a:pt x="72" y="244"/>
                  <a:pt x="144" y="152"/>
                  <a:pt x="240" y="96"/>
                </a:cubicBezTo>
                <a:cubicBezTo>
                  <a:pt x="336" y="40"/>
                  <a:pt x="464" y="0"/>
                  <a:pt x="576" y="0"/>
                </a:cubicBezTo>
                <a:cubicBezTo>
                  <a:pt x="688" y="0"/>
                  <a:pt x="832" y="56"/>
                  <a:pt x="912" y="96"/>
                </a:cubicBezTo>
                <a:cubicBezTo>
                  <a:pt x="992" y="136"/>
                  <a:pt x="1032" y="216"/>
                  <a:pt x="1056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897440" y="21337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373560" y="1905120"/>
            <a:ext cx="1676160" cy="533160"/>
          </a:xfrm>
          <a:custGeom>
            <a:avLst/>
            <a:gdLst/>
            <a:ahLst/>
            <a:rect l="l" t="t" r="r" b="b"/>
            <a:pathLst>
              <a:path w="1056" h="336">
                <a:moveTo>
                  <a:pt x="0" y="336"/>
                </a:moveTo>
                <a:cubicBezTo>
                  <a:pt x="72" y="244"/>
                  <a:pt x="144" y="152"/>
                  <a:pt x="240" y="96"/>
                </a:cubicBezTo>
                <a:cubicBezTo>
                  <a:pt x="336" y="40"/>
                  <a:pt x="464" y="0"/>
                  <a:pt x="576" y="0"/>
                </a:cubicBezTo>
                <a:cubicBezTo>
                  <a:pt x="688" y="0"/>
                  <a:pt x="832" y="56"/>
                  <a:pt x="912" y="96"/>
                </a:cubicBezTo>
                <a:cubicBezTo>
                  <a:pt x="992" y="136"/>
                  <a:pt x="1032" y="216"/>
                  <a:pt x="1056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838240" y="2209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047920" y="2209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496240" y="31240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I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629960" y="31240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I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904120" y="1066680"/>
            <a:ext cx="50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740400" y="1371600"/>
            <a:ext cx="764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-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979640" y="3886200"/>
            <a:ext cx="41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=[H,H,H,T,T,H,T,T,T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=[1,2,1,2,1,1,2,1,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638680" y="1066680"/>
            <a:ext cx="3505320" cy="3048120"/>
          </a:xfrm>
          <a:prstGeom prst="irregularSeal2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hat i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ne c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s bia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086520" y="4038480"/>
            <a:ext cx="21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nd states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longer corresp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064840" y="1066680"/>
            <a:ext cx="50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692880" y="2438280"/>
            <a:ext cx="764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-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209680" y="5029200"/>
            <a:ext cx="5486400" cy="144792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446560" y="5181480"/>
            <a:ext cx="14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H) = 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646600" y="5181480"/>
            <a:ext cx="16272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H) = 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T) = 1-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I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370240" y="5638680"/>
            <a:ext cx="1627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T) = 1-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I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04920" y="1143000"/>
            <a:ext cx="3504960" cy="3048120"/>
          </a:xfrm>
          <a:prstGeom prst="irregularSeal2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ask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fin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n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ij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812160" y="457200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Not se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Markov models – Order </a:t>
            </a: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 models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962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iven a state sequence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2514600" y="1676520"/>
                <a:ext cx="22860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0" name=""/>
          <p:cNvSpPr/>
          <p:nvPr/>
        </p:nvSpPr>
        <p:spPr>
          <a:xfrm>
            <a:off x="533520" y="2362320"/>
            <a:ext cx="78962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157680" indent="-1576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Normally a probabilistic description of q requires the current state at time t and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all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predecessor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7680" indent="-1576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However, an order 1 Markov chain probabilistic dependence is truncated to just the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previous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685800" y="5638680"/>
                <a:ext cx="76201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Applications - Text independence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 Narrow"/>
              </a:rPr>
              <a:t>Cons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SzPct val="7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large amounts of phonetically balanced spee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SzPct val="7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e to large textual variation, models may be very compl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Markov models – Transition probabilities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ituation is further simplified as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2057400" y="2057400"/>
                <a:ext cx="41911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5" name=""/>
          <p:cNvSpPr/>
          <p:nvPr/>
        </p:nvSpPr>
        <p:spPr>
          <a:xfrm>
            <a:off x="685800" y="2819520"/>
            <a:ext cx="78962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babilities are invariant to time, referred to as “transition probabilitie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Obeys following propert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3124080" y="4495680"/>
                <a:ext cx="236232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Markov model - Evaluation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iven a state sequence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9" name=""/>
              <p:cNvSpPr txBox="1"/>
              <p:nvPr/>
            </p:nvSpPr>
            <p:spPr>
              <a:xfrm>
                <a:off x="2971800" y="1981080"/>
                <a:ext cx="22860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0" name=""/>
          <p:cNvSpPr/>
          <p:nvPr/>
        </p:nvSpPr>
        <p:spPr>
          <a:xfrm>
            <a:off x="685800" y="2819520"/>
            <a:ext cx="84582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nd Markov model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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,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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, wher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is a vector containing initial state probabilities 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=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One can evaluate the a posteriori probability of the process 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1" name=""/>
              <p:cNvSpPr txBox="1"/>
              <p:nvPr/>
            </p:nvSpPr>
            <p:spPr>
              <a:xfrm>
                <a:off x="2819520" y="5029200"/>
                <a:ext cx="35114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|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nary>
                      <m:naryPr>
                        <m:chr m:val="∏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HMM - Evaluation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38280" y="1262160"/>
            <a:ext cx="789624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ypically do not have access to the state sequence, only the observation sequence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2819520" y="2438280"/>
                <a:ext cx="2984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5" name=""/>
          <p:cNvSpPr/>
          <p:nvPr/>
        </p:nvSpPr>
        <p:spPr>
          <a:xfrm>
            <a:off x="685800" y="3124080"/>
            <a:ext cx="789624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he a posteriori probability that the observation sequenc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was created by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1523880" y="4267080"/>
                <a:ext cx="563904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|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ll </m:t>
                        </m:r>
                        <m:r>
                          <m:t xml:space="preserve">q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|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1600200" y="5638680"/>
                <a:ext cx="546732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|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ll </m:t>
                        </m:r>
                        <m:r>
                          <m:t xml:space="preserve">q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|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28" name=""/>
          <p:cNvSpPr/>
          <p:nvPr/>
        </p:nvSpPr>
        <p:spPr>
          <a:xfrm>
            <a:off x="2125080" y="5156280"/>
            <a:ext cx="43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ypically evaluated as a likelihoo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HMM – Evaluation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How do we evaluate?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1828800" y="1828800"/>
                <a:ext cx="5226120" cy="22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O</m:t>
                          </m:r>
                          <m:r>
                            <m:t xml:space="preserve">|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λ</m:t>
                          </m:r>
                          <m:r>
                            <m:t xml:space="preserve">)</m:t>
                          </m:r>
                        </m:e>
                        <m:e/>
                        <m:e>
                          <m:nary>
                            <m:naryPr>
                              <m:chr m:val="∏"/>
                            </m:naryPr>
                            <m:sub>
                              <m:r>
                                <m:t xml:space="preserve">t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T</m:t>
                              </m:r>
                            </m:sup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λ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mr>
                      <m:mr>
                        <m:e/>
                        <m:e/>
                        <m:e>
                          <m:nary>
                            <m:naryPr>
                              <m:chr m:val="∏"/>
                            </m:naryPr>
                            <m:sub>
                              <m:r>
                                <m:t xml:space="preserve">t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T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nary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832" name=""/>
          <p:cNvGrpSpPr/>
          <p:nvPr/>
        </p:nvGrpSpPr>
        <p:grpSpPr>
          <a:xfrm>
            <a:off x="3048120" y="4114800"/>
            <a:ext cx="4114800" cy="952200"/>
            <a:chOff x="3048120" y="4114800"/>
            <a:chExt cx="4114800" cy="952200"/>
          </a:xfrm>
        </p:grpSpPr>
        <p:sp>
          <p:nvSpPr>
            <p:cNvPr id="833" name=""/>
            <p:cNvSpPr/>
            <p:nvPr/>
          </p:nvSpPr>
          <p:spPr>
            <a:xfrm>
              <a:off x="3048120" y="4114800"/>
              <a:ext cx="4114800" cy="914400"/>
            </a:xfrm>
            <a:prstGeom prst="flowChartAlternateProcess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087360" y="4191120"/>
              <a:ext cx="38545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here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o)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mission likeliho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5" name=""/>
          <p:cNvSpPr/>
          <p:nvPr/>
        </p:nvSpPr>
        <p:spPr>
          <a:xfrm>
            <a:off x="838080" y="5257800"/>
            <a:ext cx="78962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mission likelihood typically GMM, but maybe ANN, SVM or even another HM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HMM – Viterbi approximation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38280" y="1262160"/>
            <a:ext cx="789624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n practice the evaluation of all possible paths too computationally intensive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8" name=""/>
              <p:cNvSpPr txBox="1"/>
              <p:nvPr/>
            </p:nvSpPr>
            <p:spPr>
              <a:xfrm>
                <a:off x="1523880" y="2438280"/>
                <a:ext cx="546732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|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ll </m:t>
                        </m:r>
                        <m:r>
                          <m:t xml:space="preserve">q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|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39" name=""/>
          <p:cNvSpPr/>
          <p:nvPr/>
        </p:nvSpPr>
        <p:spPr>
          <a:xfrm>
            <a:off x="762120" y="3429000"/>
            <a:ext cx="789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mploy Viterbi approxim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0" name=""/>
              <p:cNvSpPr txBox="1"/>
              <p:nvPr/>
            </p:nvSpPr>
            <p:spPr>
              <a:xfrm>
                <a:off x="1447920" y="4267080"/>
                <a:ext cx="58449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|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≈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O</m:t>
                            </m:r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  <m:r>
                              <m:t xml:space="preserve">λ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/>
                            </m:sSup>
                            <m:r>
                              <m:t xml:space="preserve">|</m:t>
                            </m:r>
                            <m:r>
                              <m:t xml:space="preserve">λ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41" name=""/>
          <p:cNvSpPr/>
          <p:nvPr/>
        </p:nvSpPr>
        <p:spPr>
          <a:xfrm>
            <a:off x="762120" y="5257800"/>
            <a:ext cx="789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inds single best path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that best describes observation sequ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HMM – Viterbi decoding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914400" y="1074600"/>
            <a:ext cx="7696080" cy="4953240"/>
          </a:xfrm>
          <a:prstGeom prst="rect">
            <a:avLst/>
          </a:prstGeom>
          <a:ln w="0">
            <a:noFill/>
          </a:ln>
        </p:spPr>
      </p:pic>
      <p:sp>
        <p:nvSpPr>
          <p:cNvPr id="844" name=""/>
          <p:cNvSpPr/>
          <p:nvPr/>
        </p:nvSpPr>
        <p:spPr>
          <a:xfrm flipV="1">
            <a:off x="2666880" y="4724280"/>
            <a:ext cx="609840" cy="609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3276720" y="3429000"/>
            <a:ext cx="609480" cy="1295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886200" y="350532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4419720" y="2895480"/>
            <a:ext cx="609480" cy="609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5029200" y="289548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6248520" y="2361960"/>
            <a:ext cx="609480" cy="533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558120" y="1828800"/>
            <a:ext cx="26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optimal state path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209680" y="5638680"/>
            <a:ext cx="5562720" cy="1524240"/>
          </a:xfrm>
          <a:prstGeom prst="irregularSeal2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Dynamic pro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problem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486240" y="122076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HMM Trelli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HMM – Viterbi decoding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o solve globally still need to evaluate every possible path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an solve efficiently using dynamic programming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ost common optimality criterion is to choose sta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that are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individually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most likely at each ti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Only a locally optimal solution.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Has been shown empirically to perform well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HMM – Estimation?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38280" y="1262160"/>
            <a:ext cx="78962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HMM model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defined a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)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7" name=""/>
          <p:cNvSpPr/>
          <p:nvPr/>
        </p:nvSpPr>
        <p:spPr>
          <a:xfrm>
            <a:off x="1523880" y="2057400"/>
            <a:ext cx="6782040" cy="2362320"/>
          </a:xfrm>
          <a:prstGeom prst="flowChartAlternateProcess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he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= vector of N initial state prob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=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matrix of transition prob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= vector of N emission likelihoo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85800" y="4800600"/>
            <a:ext cx="78962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blem is to find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from a set of training utteranc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3276720" y="5943600"/>
                <a:ext cx="20700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860" name=""/>
          <p:cNvSpPr/>
          <p:nvPr/>
        </p:nvSpPr>
        <p:spPr>
          <a:xfrm>
            <a:off x="5542200" y="6095880"/>
            <a:ext cx="36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 is no. of training utter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HMM – Types of HMM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ifferent types of HMMs possible; dependent on,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 of transition probabilities;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 of emission like-liho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Types – Ergodic vs. Left to right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864" name=""/>
          <p:cNvSpPr/>
          <p:nvPr/>
        </p:nvSpPr>
        <p:spPr>
          <a:xfrm rot="1648800">
            <a:off x="3123720" y="1981080"/>
            <a:ext cx="330480" cy="470160"/>
          </a:xfrm>
          <a:custGeom>
            <a:avLst/>
            <a:gdLst/>
            <a:ahLst/>
            <a:rect l="l" t="t" r="r" b="b"/>
            <a:pathLst>
              <a:path w="208" h="296">
                <a:moveTo>
                  <a:pt x="96" y="296"/>
                </a:moveTo>
                <a:cubicBezTo>
                  <a:pt x="48" y="248"/>
                  <a:pt x="0" y="200"/>
                  <a:pt x="0" y="152"/>
                </a:cubicBezTo>
                <a:cubicBezTo>
                  <a:pt x="0" y="104"/>
                  <a:pt x="64" y="16"/>
                  <a:pt x="96" y="8"/>
                </a:cubicBezTo>
                <a:cubicBezTo>
                  <a:pt x="128" y="0"/>
                  <a:pt x="176" y="64"/>
                  <a:pt x="192" y="104"/>
                </a:cubicBezTo>
                <a:cubicBezTo>
                  <a:pt x="208" y="144"/>
                  <a:pt x="200" y="196"/>
                  <a:pt x="192" y="2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971800" y="23623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133720" y="2590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1676520" y="1931400"/>
            <a:ext cx="572400" cy="964080"/>
            <a:chOff x="1676520" y="1931400"/>
            <a:chExt cx="572400" cy="964080"/>
          </a:xfrm>
        </p:grpSpPr>
        <p:sp>
          <p:nvSpPr>
            <p:cNvPr id="868" name=""/>
            <p:cNvSpPr/>
            <p:nvPr/>
          </p:nvSpPr>
          <p:spPr>
            <a:xfrm rot="1648800">
              <a:off x="1828440" y="1980720"/>
              <a:ext cx="330120" cy="470160"/>
            </a:xfrm>
            <a:custGeom>
              <a:avLst/>
              <a:gdLst/>
              <a:ahLst/>
              <a:rect l="l" t="t" r="r" b="b"/>
              <a:pathLst>
                <a:path w="208" h="296">
                  <a:moveTo>
                    <a:pt x="96" y="296"/>
                  </a:moveTo>
                  <a:cubicBezTo>
                    <a:pt x="48" y="248"/>
                    <a:pt x="0" y="200"/>
                    <a:pt x="0" y="152"/>
                  </a:cubicBezTo>
                  <a:cubicBezTo>
                    <a:pt x="0" y="104"/>
                    <a:pt x="64" y="16"/>
                    <a:pt x="96" y="8"/>
                  </a:cubicBezTo>
                  <a:cubicBezTo>
                    <a:pt x="128" y="0"/>
                    <a:pt x="176" y="64"/>
                    <a:pt x="192" y="104"/>
                  </a:cubicBezTo>
                  <a:cubicBezTo>
                    <a:pt x="208" y="144"/>
                    <a:pt x="200" y="196"/>
                    <a:pt x="192" y="2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676520" y="2362320"/>
              <a:ext cx="53316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1219320" y="4522320"/>
            <a:ext cx="572400" cy="964080"/>
            <a:chOff x="1219320" y="4522320"/>
            <a:chExt cx="572400" cy="964080"/>
          </a:xfrm>
        </p:grpSpPr>
        <p:sp>
          <p:nvSpPr>
            <p:cNvPr id="871" name=""/>
            <p:cNvSpPr/>
            <p:nvPr/>
          </p:nvSpPr>
          <p:spPr>
            <a:xfrm rot="1648800">
              <a:off x="1371240" y="4571640"/>
              <a:ext cx="330120" cy="470160"/>
            </a:xfrm>
            <a:custGeom>
              <a:avLst/>
              <a:gdLst/>
              <a:ahLst/>
              <a:rect l="l" t="t" r="r" b="b"/>
              <a:pathLst>
                <a:path w="208" h="296">
                  <a:moveTo>
                    <a:pt x="96" y="296"/>
                  </a:moveTo>
                  <a:cubicBezTo>
                    <a:pt x="48" y="248"/>
                    <a:pt x="0" y="200"/>
                    <a:pt x="0" y="152"/>
                  </a:cubicBezTo>
                  <a:cubicBezTo>
                    <a:pt x="0" y="104"/>
                    <a:pt x="64" y="16"/>
                    <a:pt x="96" y="8"/>
                  </a:cubicBezTo>
                  <a:cubicBezTo>
                    <a:pt x="128" y="0"/>
                    <a:pt x="176" y="64"/>
                    <a:pt x="192" y="104"/>
                  </a:cubicBezTo>
                  <a:cubicBezTo>
                    <a:pt x="208" y="144"/>
                    <a:pt x="200" y="196"/>
                    <a:pt x="192" y="2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219320" y="4953240"/>
              <a:ext cx="53316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"/>
          <p:cNvSpPr/>
          <p:nvPr/>
        </p:nvSpPr>
        <p:spPr>
          <a:xfrm>
            <a:off x="1676520" y="4800600"/>
            <a:ext cx="1600200" cy="241200"/>
          </a:xfrm>
          <a:custGeom>
            <a:avLst/>
            <a:gdLst/>
            <a:ahLst/>
            <a:rect l="l" t="t" r="r" b="b"/>
            <a:pathLst>
              <a:path w="1008" h="392">
                <a:moveTo>
                  <a:pt x="0" y="392"/>
                </a:moveTo>
                <a:cubicBezTo>
                  <a:pt x="76" y="280"/>
                  <a:pt x="152" y="168"/>
                  <a:pt x="240" y="104"/>
                </a:cubicBezTo>
                <a:cubicBezTo>
                  <a:pt x="328" y="40"/>
                  <a:pt x="424" y="0"/>
                  <a:pt x="528" y="8"/>
                </a:cubicBezTo>
                <a:cubicBezTo>
                  <a:pt x="632" y="16"/>
                  <a:pt x="784" y="88"/>
                  <a:pt x="864" y="152"/>
                </a:cubicBezTo>
                <a:cubicBezTo>
                  <a:pt x="944" y="216"/>
                  <a:pt x="984" y="352"/>
                  <a:pt x="1008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3200400" y="4522320"/>
            <a:ext cx="572400" cy="964080"/>
            <a:chOff x="3200400" y="4522320"/>
            <a:chExt cx="572400" cy="964080"/>
          </a:xfrm>
        </p:grpSpPr>
        <p:sp>
          <p:nvSpPr>
            <p:cNvPr id="875" name=""/>
            <p:cNvSpPr/>
            <p:nvPr/>
          </p:nvSpPr>
          <p:spPr>
            <a:xfrm rot="1648800">
              <a:off x="3352320" y="4571640"/>
              <a:ext cx="330120" cy="470160"/>
            </a:xfrm>
            <a:custGeom>
              <a:avLst/>
              <a:gdLst/>
              <a:ahLst/>
              <a:rect l="l" t="t" r="r" b="b"/>
              <a:pathLst>
                <a:path w="208" h="296">
                  <a:moveTo>
                    <a:pt x="96" y="296"/>
                  </a:moveTo>
                  <a:cubicBezTo>
                    <a:pt x="48" y="248"/>
                    <a:pt x="0" y="200"/>
                    <a:pt x="0" y="152"/>
                  </a:cubicBezTo>
                  <a:cubicBezTo>
                    <a:pt x="0" y="104"/>
                    <a:pt x="64" y="16"/>
                    <a:pt x="96" y="8"/>
                  </a:cubicBezTo>
                  <a:cubicBezTo>
                    <a:pt x="128" y="0"/>
                    <a:pt x="176" y="64"/>
                    <a:pt x="192" y="104"/>
                  </a:cubicBezTo>
                  <a:cubicBezTo>
                    <a:pt x="208" y="144"/>
                    <a:pt x="200" y="196"/>
                    <a:pt x="192" y="2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200400" y="4953240"/>
              <a:ext cx="53316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"/>
          <p:cNvSpPr/>
          <p:nvPr/>
        </p:nvSpPr>
        <p:spPr>
          <a:xfrm rot="10800000">
            <a:off x="1676160" y="5410080"/>
            <a:ext cx="1600200" cy="152640"/>
          </a:xfrm>
          <a:custGeom>
            <a:avLst/>
            <a:gdLst/>
            <a:ahLst/>
            <a:rect l="l" t="t" r="r" b="b"/>
            <a:pathLst>
              <a:path w="1008" h="392">
                <a:moveTo>
                  <a:pt x="0" y="392"/>
                </a:moveTo>
                <a:cubicBezTo>
                  <a:pt x="76" y="280"/>
                  <a:pt x="152" y="168"/>
                  <a:pt x="240" y="104"/>
                </a:cubicBezTo>
                <a:cubicBezTo>
                  <a:pt x="328" y="40"/>
                  <a:pt x="424" y="0"/>
                  <a:pt x="528" y="8"/>
                </a:cubicBezTo>
                <a:cubicBezTo>
                  <a:pt x="632" y="16"/>
                  <a:pt x="784" y="88"/>
                  <a:pt x="864" y="152"/>
                </a:cubicBezTo>
                <a:cubicBezTo>
                  <a:pt x="944" y="216"/>
                  <a:pt x="984" y="352"/>
                  <a:pt x="1008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3657600" y="4724280"/>
            <a:ext cx="1295280" cy="241560"/>
          </a:xfrm>
          <a:custGeom>
            <a:avLst/>
            <a:gdLst/>
            <a:ahLst/>
            <a:rect l="l" t="t" r="r" b="b"/>
            <a:pathLst>
              <a:path w="1008" h="392">
                <a:moveTo>
                  <a:pt x="0" y="392"/>
                </a:moveTo>
                <a:cubicBezTo>
                  <a:pt x="76" y="280"/>
                  <a:pt x="152" y="168"/>
                  <a:pt x="240" y="104"/>
                </a:cubicBezTo>
                <a:cubicBezTo>
                  <a:pt x="328" y="40"/>
                  <a:pt x="424" y="0"/>
                  <a:pt x="528" y="8"/>
                </a:cubicBezTo>
                <a:cubicBezTo>
                  <a:pt x="632" y="16"/>
                  <a:pt x="784" y="88"/>
                  <a:pt x="864" y="152"/>
                </a:cubicBezTo>
                <a:cubicBezTo>
                  <a:pt x="944" y="216"/>
                  <a:pt x="984" y="352"/>
                  <a:pt x="1008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 rot="10625400">
            <a:off x="1585080" y="5403240"/>
            <a:ext cx="3581640" cy="615960"/>
          </a:xfrm>
          <a:custGeom>
            <a:avLst/>
            <a:gdLst/>
            <a:ahLst/>
            <a:rect l="l" t="t" r="r" b="b"/>
            <a:pathLst>
              <a:path w="1008" h="392">
                <a:moveTo>
                  <a:pt x="0" y="392"/>
                </a:moveTo>
                <a:cubicBezTo>
                  <a:pt x="76" y="280"/>
                  <a:pt x="152" y="168"/>
                  <a:pt x="240" y="104"/>
                </a:cubicBezTo>
                <a:cubicBezTo>
                  <a:pt x="328" y="40"/>
                  <a:pt x="424" y="0"/>
                  <a:pt x="528" y="8"/>
                </a:cubicBezTo>
                <a:cubicBezTo>
                  <a:pt x="632" y="16"/>
                  <a:pt x="784" y="88"/>
                  <a:pt x="864" y="152"/>
                </a:cubicBezTo>
                <a:cubicBezTo>
                  <a:pt x="944" y="216"/>
                  <a:pt x="984" y="352"/>
                  <a:pt x="1008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rot="10800000">
            <a:off x="3657600" y="5410080"/>
            <a:ext cx="1371600" cy="152640"/>
          </a:xfrm>
          <a:custGeom>
            <a:avLst/>
            <a:gdLst/>
            <a:ahLst/>
            <a:rect l="l" t="t" r="r" b="b"/>
            <a:pathLst>
              <a:path w="1008" h="392">
                <a:moveTo>
                  <a:pt x="0" y="392"/>
                </a:moveTo>
                <a:cubicBezTo>
                  <a:pt x="76" y="280"/>
                  <a:pt x="152" y="168"/>
                  <a:pt x="240" y="104"/>
                </a:cubicBezTo>
                <a:cubicBezTo>
                  <a:pt x="328" y="40"/>
                  <a:pt x="424" y="0"/>
                  <a:pt x="528" y="8"/>
                </a:cubicBezTo>
                <a:cubicBezTo>
                  <a:pt x="632" y="16"/>
                  <a:pt x="784" y="88"/>
                  <a:pt x="864" y="152"/>
                </a:cubicBezTo>
                <a:cubicBezTo>
                  <a:pt x="944" y="216"/>
                  <a:pt x="984" y="352"/>
                  <a:pt x="1008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505320" y="2590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4343400" y="1931400"/>
            <a:ext cx="572400" cy="964080"/>
            <a:chOff x="4343400" y="1931400"/>
            <a:chExt cx="572400" cy="964080"/>
          </a:xfrm>
        </p:grpSpPr>
        <p:sp>
          <p:nvSpPr>
            <p:cNvPr id="883" name=""/>
            <p:cNvSpPr/>
            <p:nvPr/>
          </p:nvSpPr>
          <p:spPr>
            <a:xfrm rot="1648800">
              <a:off x="4495320" y="1980720"/>
              <a:ext cx="330120" cy="470160"/>
            </a:xfrm>
            <a:custGeom>
              <a:avLst/>
              <a:gdLst/>
              <a:ahLst/>
              <a:rect l="l" t="t" r="r" b="b"/>
              <a:pathLst>
                <a:path w="208" h="296">
                  <a:moveTo>
                    <a:pt x="96" y="296"/>
                  </a:moveTo>
                  <a:cubicBezTo>
                    <a:pt x="48" y="248"/>
                    <a:pt x="0" y="200"/>
                    <a:pt x="0" y="152"/>
                  </a:cubicBezTo>
                  <a:cubicBezTo>
                    <a:pt x="0" y="104"/>
                    <a:pt x="64" y="16"/>
                    <a:pt x="96" y="8"/>
                  </a:cubicBezTo>
                  <a:cubicBezTo>
                    <a:pt x="128" y="0"/>
                    <a:pt x="176" y="64"/>
                    <a:pt x="192" y="104"/>
                  </a:cubicBezTo>
                  <a:cubicBezTo>
                    <a:pt x="208" y="144"/>
                    <a:pt x="200" y="196"/>
                    <a:pt x="192" y="2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343400" y="2362320"/>
              <a:ext cx="53316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5751360" y="2133720"/>
            <a:ext cx="240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eft to righ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330960" y="4800600"/>
            <a:ext cx="169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godic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257800" y="2666880"/>
            <a:ext cx="3581280" cy="2133720"/>
          </a:xfrm>
          <a:prstGeom prst="irregularSeal2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Left to right us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4876920" y="4446000"/>
            <a:ext cx="572400" cy="964080"/>
            <a:chOff x="4876920" y="4446000"/>
            <a:chExt cx="572400" cy="964080"/>
          </a:xfrm>
        </p:grpSpPr>
        <p:sp>
          <p:nvSpPr>
            <p:cNvPr id="889" name=""/>
            <p:cNvSpPr/>
            <p:nvPr/>
          </p:nvSpPr>
          <p:spPr>
            <a:xfrm rot="1648800">
              <a:off x="5028840" y="4495320"/>
              <a:ext cx="330120" cy="470160"/>
            </a:xfrm>
            <a:custGeom>
              <a:avLst/>
              <a:gdLst/>
              <a:ahLst/>
              <a:rect l="l" t="t" r="r" b="b"/>
              <a:pathLst>
                <a:path w="208" h="296">
                  <a:moveTo>
                    <a:pt x="96" y="296"/>
                  </a:moveTo>
                  <a:cubicBezTo>
                    <a:pt x="48" y="248"/>
                    <a:pt x="0" y="200"/>
                    <a:pt x="0" y="152"/>
                  </a:cubicBezTo>
                  <a:cubicBezTo>
                    <a:pt x="0" y="104"/>
                    <a:pt x="64" y="16"/>
                    <a:pt x="96" y="8"/>
                  </a:cubicBezTo>
                  <a:cubicBezTo>
                    <a:pt x="128" y="0"/>
                    <a:pt x="176" y="64"/>
                    <a:pt x="192" y="104"/>
                  </a:cubicBezTo>
                  <a:cubicBezTo>
                    <a:pt x="208" y="144"/>
                    <a:pt x="200" y="196"/>
                    <a:pt x="192" y="2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876920" y="4876920"/>
              <a:ext cx="53316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1523880" y="4267080"/>
            <a:ext cx="3581640" cy="685800"/>
          </a:xfrm>
          <a:custGeom>
            <a:avLst/>
            <a:gdLst/>
            <a:ahLst/>
            <a:rect l="l" t="t" r="r" b="b"/>
            <a:pathLst>
              <a:path w="1008" h="392">
                <a:moveTo>
                  <a:pt x="0" y="392"/>
                </a:moveTo>
                <a:cubicBezTo>
                  <a:pt x="76" y="280"/>
                  <a:pt x="152" y="168"/>
                  <a:pt x="240" y="104"/>
                </a:cubicBezTo>
                <a:cubicBezTo>
                  <a:pt x="328" y="40"/>
                  <a:pt x="424" y="0"/>
                  <a:pt x="528" y="8"/>
                </a:cubicBezTo>
                <a:cubicBezTo>
                  <a:pt x="632" y="16"/>
                  <a:pt x="784" y="88"/>
                  <a:pt x="864" y="152"/>
                </a:cubicBezTo>
                <a:cubicBezTo>
                  <a:pt x="944" y="216"/>
                  <a:pt x="984" y="352"/>
                  <a:pt x="1008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Performance – FA and FR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ifficult to characterize performance of speaker verification system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ependent on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of databas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ing condition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enerally evaluated in terms of two types of error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se acceptanc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F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rr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se rejectio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FR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rr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39400" y="4952880"/>
            <a:ext cx="22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Percentag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imposters acce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27600" y="5562720"/>
            <a:ext cx="18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ercentag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lients rej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Types – Ergodic vs. Left to right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Left to right topology normally employed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nforces causality of speech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lso gives less free parameters (i.e. less training observations required)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rgodic topology sometimes used to model non-causal signals (e.g. silence)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Types – Discrete vs. Continuous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he emission likelihoods can be discrete or continuou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835680" cy="512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Types – Discrete vs. Continuous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iscrete emission likelihoods usually created via a vector quantization process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ontinuous likelihoods created using GMMs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ontinuous likelihoods are nearly “always” used now. 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HMM – Estimation?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Want to maximize ML criterion,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wo techniques used for estimation,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spcBef>
                <a:spcPts val="799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terbi;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799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um Welch algorithm, (Forward Backward algorith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514600" y="2133720"/>
                <a:ext cx="33526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λ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HMM – Estimation considerations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Need to select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states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mixtures (for emission likelihood func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ependent on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unt of training observations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of event being mode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sually related to the number of phonemic events in the utterance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5105520" y="3429000"/>
            <a:ext cx="1447560" cy="2362320"/>
          </a:xfrm>
          <a:prstGeom prst="flowChartAlternateProcess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581280" y="3429000"/>
            <a:ext cx="1447920" cy="236232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981080" y="3429000"/>
            <a:ext cx="1447920" cy="2362320"/>
          </a:xfrm>
          <a:prstGeom prst="flowChartAlternateProcess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Viterbi - Estimation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Enforces a hard boundary solution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nitially segments training utterance into N (no. of states) even segments,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1143000" y="3733920"/>
            <a:ext cx="6095880" cy="1143000"/>
            <a:chOff x="1143000" y="3733920"/>
            <a:chExt cx="6095880" cy="1143000"/>
          </a:xfrm>
        </p:grpSpPr>
        <p:pic>
          <p:nvPicPr>
            <p:cNvPr id="910" name="" descr=""/>
            <p:cNvPicPr/>
            <p:nvPr/>
          </p:nvPicPr>
          <p:blipFill>
            <a:blip r:embed="rId1"/>
            <a:stretch/>
          </p:blipFill>
          <p:spPr>
            <a:xfrm>
              <a:off x="1143000" y="3733920"/>
              <a:ext cx="6095880" cy="10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1" name=""/>
            <p:cNvSpPr/>
            <p:nvPr/>
          </p:nvSpPr>
          <p:spPr>
            <a:xfrm>
              <a:off x="1905120" y="3733920"/>
              <a:ext cx="0" cy="114300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505320" y="3733920"/>
              <a:ext cx="0" cy="114300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105520" y="3733920"/>
              <a:ext cx="0" cy="114300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629400" y="3733920"/>
              <a:ext cx="0" cy="114300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990720" y="5105520"/>
            <a:ext cx="61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{1}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 1,1,1,1,1,1,2,2,2,2,2,2,3,3,3,3,3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133000" y="58420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Stat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752280" y="58672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Stat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276160" y="58672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Stat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Viterbi – Estimation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920" name=""/>
          <p:cNvSpPr/>
          <p:nvPr/>
        </p:nvSpPr>
        <p:spPr>
          <a:xfrm>
            <a:off x="6324480" y="3581280"/>
            <a:ext cx="685800" cy="2362320"/>
          </a:xfrm>
          <a:prstGeom prst="flowChartAlternateProcess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114800" y="3581280"/>
            <a:ext cx="2057400" cy="236232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438280" y="3581280"/>
            <a:ext cx="1600200" cy="2362320"/>
          </a:xfrm>
          <a:prstGeom prst="flowChartAlternateProcess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1"/>
          <a:stretch/>
        </p:blipFill>
        <p:spPr>
          <a:xfrm>
            <a:off x="1600200" y="3886200"/>
            <a:ext cx="6095880" cy="1038240"/>
          </a:xfrm>
          <a:prstGeom prst="rect">
            <a:avLst/>
          </a:prstGeom>
          <a:ln w="0">
            <a:noFill/>
          </a:ln>
        </p:spPr>
      </p:pic>
      <p:sp>
        <p:nvSpPr>
          <p:cNvPr id="924" name=""/>
          <p:cNvSpPr/>
          <p:nvPr/>
        </p:nvSpPr>
        <p:spPr>
          <a:xfrm>
            <a:off x="2362320" y="3886200"/>
            <a:ext cx="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4114800" y="3886200"/>
            <a:ext cx="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6248520" y="3886200"/>
            <a:ext cx="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7086600" y="3886200"/>
            <a:ext cx="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600200" y="5257800"/>
            <a:ext cx="61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{T}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1,1,1,1,1,1,2,2,2,2,2,2,2,2,2,3,3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590200" y="599436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Stat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4666680" y="601992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Stat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190560" y="601992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Stat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rom state label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{t}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alculate new HMM model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{t}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terate until no change i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S|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{t+1}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,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Baum-Welch - Estimation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oes not define explicit boundaries in utterance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efines soft boundaries (i.e. observations can come from all states)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5" name=""/>
          <p:cNvSpPr/>
          <p:nvPr/>
        </p:nvSpPr>
        <p:spPr>
          <a:xfrm>
            <a:off x="2837880" y="342900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Stat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133160" y="342900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Stat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581080" y="342900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Stat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1"/>
          <a:stretch/>
        </p:blipFill>
        <p:spPr>
          <a:xfrm>
            <a:off x="1600200" y="4114800"/>
            <a:ext cx="6095880" cy="103824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"/>
          <p:cNvPicPr/>
          <p:nvPr/>
        </p:nvPicPr>
        <p:blipFill>
          <a:blip r:embed="rId2"/>
          <a:stretch/>
        </p:blipFill>
        <p:spPr>
          <a:xfrm>
            <a:off x="3352680" y="3809880"/>
            <a:ext cx="2514600" cy="1028880"/>
          </a:xfrm>
          <a:prstGeom prst="rect">
            <a:avLst/>
          </a:prstGeom>
          <a:ln w="0">
            <a:noFill/>
          </a:ln>
        </p:spPr>
      </p:pic>
      <p:pic>
        <p:nvPicPr>
          <p:cNvPr id="940" name="" descr=""/>
          <p:cNvPicPr/>
          <p:nvPr/>
        </p:nvPicPr>
        <p:blipFill>
          <a:blip r:embed="rId3"/>
          <a:stretch/>
        </p:blipFill>
        <p:spPr>
          <a:xfrm>
            <a:off x="4800600" y="3809880"/>
            <a:ext cx="2514600" cy="1028880"/>
          </a:xfrm>
          <a:prstGeom prst="rect">
            <a:avLst/>
          </a:prstGeom>
          <a:ln w="0">
            <a:noFill/>
          </a:ln>
        </p:spPr>
      </p:pic>
      <p:pic>
        <p:nvPicPr>
          <p:cNvPr id="941" name="" descr=""/>
          <p:cNvPicPr/>
          <p:nvPr/>
        </p:nvPicPr>
        <p:blipFill>
          <a:blip r:embed="rId4"/>
          <a:stretch/>
        </p:blipFill>
        <p:spPr>
          <a:xfrm>
            <a:off x="2057400" y="3809880"/>
            <a:ext cx="2514600" cy="10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Baum-Welch - Estimation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Similarly from soft labels calculate new HMM model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{t}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terate until no change i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S|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{t+1}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,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4" name=""/>
          <p:cNvSpPr/>
          <p:nvPr/>
        </p:nvSpPr>
        <p:spPr>
          <a:xfrm>
            <a:off x="2609280" y="38098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Stat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285440" y="38098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Stat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657040" y="38098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Stat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" descr=""/>
          <p:cNvPicPr/>
          <p:nvPr/>
        </p:nvPicPr>
        <p:blipFill>
          <a:blip r:embed="rId1"/>
          <a:stretch/>
        </p:blipFill>
        <p:spPr>
          <a:xfrm>
            <a:off x="1371600" y="4495680"/>
            <a:ext cx="6095880" cy="1038240"/>
          </a:xfrm>
          <a:prstGeom prst="rect">
            <a:avLst/>
          </a:prstGeom>
          <a:ln w="0">
            <a:noFill/>
          </a:ln>
        </p:spPr>
      </p:pic>
      <p:pic>
        <p:nvPicPr>
          <p:cNvPr id="948" name="" descr=""/>
          <p:cNvPicPr/>
          <p:nvPr/>
        </p:nvPicPr>
        <p:blipFill>
          <a:blip r:embed="rId2"/>
          <a:stretch/>
        </p:blipFill>
        <p:spPr>
          <a:xfrm>
            <a:off x="3352680" y="4191120"/>
            <a:ext cx="2819520" cy="10285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3"/>
          <a:stretch/>
        </p:blipFill>
        <p:spPr>
          <a:xfrm>
            <a:off x="5257800" y="4191120"/>
            <a:ext cx="1828800" cy="1028520"/>
          </a:xfrm>
          <a:prstGeom prst="rect">
            <a:avLst/>
          </a:prstGeom>
          <a:ln w="0">
            <a:noFill/>
          </a:ln>
        </p:spPr>
      </p:pic>
      <p:pic>
        <p:nvPicPr>
          <p:cNvPr id="950" name="" descr=""/>
          <p:cNvPicPr/>
          <p:nvPr/>
        </p:nvPicPr>
        <p:blipFill>
          <a:blip r:embed="rId4"/>
          <a:stretch/>
        </p:blipFill>
        <p:spPr>
          <a:xfrm>
            <a:off x="1828800" y="4191120"/>
            <a:ext cx="2438280" cy="1028520"/>
          </a:xfrm>
          <a:prstGeom prst="rect">
            <a:avLst/>
          </a:prstGeom>
          <a:ln w="0">
            <a:noFill/>
          </a:ln>
        </p:spPr>
      </p:pic>
      <p:sp>
        <p:nvSpPr>
          <p:cNvPr id="951" name=""/>
          <p:cNvSpPr/>
          <p:nvPr/>
        </p:nvSpPr>
        <p:spPr>
          <a:xfrm>
            <a:off x="2057400" y="548640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um-Welch estimation tends to get best results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HMM – Background models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imilar concerns as for the text independent scenario involving GMM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ackground models required to improve overall performance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Performance  - FA and FR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A and FR increase and decrease respectively, based on the threshold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ceiver operating characteristic (ROC) curve can be used to show performance for a varying threshold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qual error rate (FA=FR) can also be used as an quantitative measure of performance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Composite HMMs - Evaluation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an be used to evaluate multiple word units, as one giant “composite” HMM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6" name=""/>
          <p:cNvSpPr/>
          <p:nvPr/>
        </p:nvSpPr>
        <p:spPr>
          <a:xfrm>
            <a:off x="3200400" y="3048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638680" y="2743200"/>
            <a:ext cx="1295640" cy="60948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7391520" y="2743200"/>
            <a:ext cx="1295280" cy="60948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52388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10552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93432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04920" y="2743200"/>
            <a:ext cx="1295280" cy="60948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981080" y="2743200"/>
            <a:ext cx="1295640" cy="60948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886200" y="2743200"/>
            <a:ext cx="1295280" cy="60948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505320" y="4038480"/>
            <a:ext cx="1676160" cy="60984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d uni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 rot="1648800">
            <a:off x="4267080" y="5257800"/>
            <a:ext cx="330480" cy="469800"/>
          </a:xfrm>
          <a:custGeom>
            <a:avLst/>
            <a:gdLst/>
            <a:ahLst/>
            <a:rect l="l" t="t" r="r" b="b"/>
            <a:pathLst>
              <a:path w="208" h="296">
                <a:moveTo>
                  <a:pt x="96" y="296"/>
                </a:moveTo>
                <a:cubicBezTo>
                  <a:pt x="48" y="248"/>
                  <a:pt x="0" y="200"/>
                  <a:pt x="0" y="152"/>
                </a:cubicBezTo>
                <a:cubicBezTo>
                  <a:pt x="0" y="104"/>
                  <a:pt x="64" y="16"/>
                  <a:pt x="96" y="8"/>
                </a:cubicBezTo>
                <a:cubicBezTo>
                  <a:pt x="128" y="0"/>
                  <a:pt x="176" y="64"/>
                  <a:pt x="192" y="104"/>
                </a:cubicBezTo>
                <a:cubicBezTo>
                  <a:pt x="208" y="144"/>
                  <a:pt x="200" y="196"/>
                  <a:pt x="192" y="2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114800" y="56386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276720" y="5867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2819520" y="5208120"/>
            <a:ext cx="572400" cy="964080"/>
            <a:chOff x="2819520" y="5208120"/>
            <a:chExt cx="572400" cy="964080"/>
          </a:xfrm>
        </p:grpSpPr>
        <p:sp>
          <p:nvSpPr>
            <p:cNvPr id="970" name=""/>
            <p:cNvSpPr/>
            <p:nvPr/>
          </p:nvSpPr>
          <p:spPr>
            <a:xfrm rot="1648800">
              <a:off x="2971440" y="5257440"/>
              <a:ext cx="330120" cy="470160"/>
            </a:xfrm>
            <a:custGeom>
              <a:avLst/>
              <a:gdLst/>
              <a:ahLst/>
              <a:rect l="l" t="t" r="r" b="b"/>
              <a:pathLst>
                <a:path w="208" h="296">
                  <a:moveTo>
                    <a:pt x="96" y="296"/>
                  </a:moveTo>
                  <a:cubicBezTo>
                    <a:pt x="48" y="248"/>
                    <a:pt x="0" y="200"/>
                    <a:pt x="0" y="152"/>
                  </a:cubicBezTo>
                  <a:cubicBezTo>
                    <a:pt x="0" y="104"/>
                    <a:pt x="64" y="16"/>
                    <a:pt x="96" y="8"/>
                  </a:cubicBezTo>
                  <a:cubicBezTo>
                    <a:pt x="128" y="0"/>
                    <a:pt x="176" y="64"/>
                    <a:pt x="192" y="104"/>
                  </a:cubicBezTo>
                  <a:cubicBezTo>
                    <a:pt x="208" y="144"/>
                    <a:pt x="200" y="196"/>
                    <a:pt x="192" y="2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819520" y="5639040"/>
              <a:ext cx="53316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4648320" y="5867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5486400" y="5208120"/>
            <a:ext cx="572400" cy="964080"/>
            <a:chOff x="5486400" y="5208120"/>
            <a:chExt cx="572400" cy="964080"/>
          </a:xfrm>
        </p:grpSpPr>
        <p:sp>
          <p:nvSpPr>
            <p:cNvPr id="974" name=""/>
            <p:cNvSpPr/>
            <p:nvPr/>
          </p:nvSpPr>
          <p:spPr>
            <a:xfrm rot="1648800">
              <a:off x="5638320" y="5257440"/>
              <a:ext cx="330120" cy="470160"/>
            </a:xfrm>
            <a:custGeom>
              <a:avLst/>
              <a:gdLst/>
              <a:ahLst/>
              <a:rect l="l" t="t" r="r" b="b"/>
              <a:pathLst>
                <a:path w="208" h="296">
                  <a:moveTo>
                    <a:pt x="96" y="296"/>
                  </a:moveTo>
                  <a:cubicBezTo>
                    <a:pt x="48" y="248"/>
                    <a:pt x="0" y="200"/>
                    <a:pt x="0" y="152"/>
                  </a:cubicBezTo>
                  <a:cubicBezTo>
                    <a:pt x="0" y="104"/>
                    <a:pt x="64" y="16"/>
                    <a:pt x="96" y="8"/>
                  </a:cubicBezTo>
                  <a:cubicBezTo>
                    <a:pt x="128" y="0"/>
                    <a:pt x="176" y="64"/>
                    <a:pt x="192" y="104"/>
                  </a:cubicBezTo>
                  <a:cubicBezTo>
                    <a:pt x="208" y="144"/>
                    <a:pt x="200" y="196"/>
                    <a:pt x="192" y="2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486400" y="5639040"/>
              <a:ext cx="53316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6" name=""/>
          <p:cNvSpPr/>
          <p:nvPr/>
        </p:nvSpPr>
        <p:spPr>
          <a:xfrm>
            <a:off x="1981080" y="5867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523880" y="56386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036080" y="4927680"/>
            <a:ext cx="158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Word un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ntry poin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858000" y="55627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019920" y="5867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315480" y="4876920"/>
            <a:ext cx="152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Word un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xit poin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4191120" y="3581280"/>
            <a:ext cx="457200" cy="381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992600" y="6400800"/>
            <a:ext cx="71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ahoma"/>
              </a:rPr>
              <a:t>No  cost associated with entry and exit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191120" y="4800600"/>
            <a:ext cx="45720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Composite HMMs - Estimation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imilarly can perform estimation on “composite” HMM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xtremely useful when one does not have transcribed speech for estimation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an still train models if one simply knows the label content of the speech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his is how continuous speech recognizers are trained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 txBox="1"/>
          <p:nvPr/>
        </p:nvSpPr>
        <p:spPr>
          <a:xfrm>
            <a:off x="1371600" y="1905120"/>
            <a:ext cx="6934320" cy="2590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estions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2133720" y="1905120"/>
            <a:ext cx="4724280" cy="2590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d of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ay 1 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Tutorial Schedule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M Session, Sep. 5 (Thursday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0:00~11: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ground to speech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1:00~11:1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1:15~12:1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-end proces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M Session, Sep. 5 (Thursday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:30~3: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aker models (part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:00~3:1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:15~4:1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aker models (part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Performance – DET plot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etection error tradeoff (DET) plot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imilar to receiver operating characteristic (ROC) curve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ecoming widely used over traditional plots as they show more detail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f imposter and claimant scores are normal, will show as a straight line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llows for better comparison between technique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DET – Example (overlap)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076960" cy="605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DET – Example (overlap)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85800" y="892080"/>
            <a:ext cx="7954920" cy="596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DET – Example (separated)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03280" y="762120"/>
            <a:ext cx="864072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DET – Example (separated)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03280" y="609480"/>
            <a:ext cx="8640720" cy="6480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rot="18757800">
            <a:off x="4496040" y="3047400"/>
            <a:ext cx="685800" cy="486000"/>
          </a:xfrm>
          <a:prstGeom prst="leftArrow">
            <a:avLst>
              <a:gd name="adj1" fmla="val 50000"/>
              <a:gd name="adj2" fmla="val 3527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74120" y="274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42200" y="36576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286000" y="1523520"/>
            <a:ext cx="4952880" cy="4876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8964800">
            <a:off x="2486880" y="488556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ER (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Voice Biometric - History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nitially investigated by Alexander Melville Bell (father of Alexander Graham Bell) 100 years ago, studying phonetic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arly 1940s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otter, Kopp &amp; Green (Bell Labs) developed sound spectrogram (intensity, frequency and time).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WWII scientists suggested its use to identify enemy voices (war ended before use)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Voice Biometric – History cont…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Late 50s early 60s, research intensified as NYPD was receiving many bomb threat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Lawrence G. Kersta (Bell Labs) developed technique using spectrogram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sed as evidence in US courts since late 60s (still regarded with some suspicion)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echniques required human analysis of spectrogram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rom late 60s to present automated techniques for classification have been pursued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 Narrow"/>
              </a:rPr>
              <a:t>Evolution of Speaker Verification Classifiers</a:t>
            </a:r>
            <a:endParaRPr b="1" lang="en-US" sz="3600" spc="-1" strike="noStrike">
              <a:solidFill>
                <a:srgbClr val="990000"/>
              </a:solidFill>
              <a:latin typeface="Arial Narrow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229600" cy="4343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078360" y="5791320"/>
            <a:ext cx="28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aken from Reynolds’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Voice Biometrics – Cues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686800" cy="3809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981080" y="55627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ow level cues are usually us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29200" y="5029200"/>
            <a:ext cx="28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aken from Reynolds’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52480" y="609588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(Higher level analysis subject of continuing resear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990000"/>
                </a:solidFill>
                <a:latin typeface="Arial Narrow"/>
              </a:rPr>
              <a:t>Voice Biometric – Strengths &amp; Weaknesses</a:t>
            </a:r>
            <a:endParaRPr b="1" lang="en-US" sz="36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17884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 Narrow"/>
              </a:rPr>
              <a:t>Strength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high accuracy compared against other biometr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n good conditions achieves excellent resu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 Narrow"/>
              </a:rPr>
              <a:t>Weakness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Heavily affected by noise and other environmental conditions - depends on the speech fea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Requires relatively large amounts of training observ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4114800"/>
            <a:ext cx="8762760" cy="3276720"/>
          </a:xfrm>
          <a:prstGeom prst="irregularSeal2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Last two points, basic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f research in speaker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mmunity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Tutorial Schedule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M Session, Sep. 6 (Friday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0:00~11: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aker verification, current direction and develop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1:00~11:1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1:15~12:1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 considerations and discu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04920" y="3809880"/>
            <a:ext cx="8076960" cy="2133720"/>
            <a:chOff x="304920" y="3809880"/>
            <a:chExt cx="8076960" cy="2133720"/>
          </a:xfrm>
        </p:grpSpPr>
        <p:sp>
          <p:nvSpPr>
            <p:cNvPr id="52" name=""/>
            <p:cNvSpPr/>
            <p:nvPr/>
          </p:nvSpPr>
          <p:spPr>
            <a:xfrm>
              <a:off x="304920" y="3809880"/>
              <a:ext cx="8076960" cy="2133720"/>
            </a:xfrm>
            <a:prstGeom prst="irregularSeal2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93080" y="4648320"/>
              <a:ext cx="482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ahoma"/>
                </a:rPr>
                <a:t>Please ask questions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990000"/>
                </a:solidFill>
                <a:latin typeface="Arial Narrow"/>
              </a:rPr>
              <a:t>Voice Biomteric – Works best!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Narrow"/>
              </a:rPr>
              <a:t>Ideal situation for best performanc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mpare against same train/test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lean 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ame speaking style in training and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ame language in training and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Mechanics – Introduction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An understanding of the basic mechanics of speech is crucial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Speech is a naturally varying continuous signal whose statistics change with time. 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Mechanics – Speech process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362320" y="1143000"/>
            <a:ext cx="4054320" cy="49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Mechanics - Modulation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000080" y="1662120"/>
            <a:ext cx="7170840" cy="41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Mechanics – Formants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8610480" cy="38862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789624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spcBef>
                <a:spcPts val="799"/>
              </a:spcBef>
              <a:buClr>
                <a:srgbClr val="99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eaks are known as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formants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nd represent resonances of the vocal tract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16000" indent="-21600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" name=""/>
          <p:cNvSpPr/>
          <p:nvPr/>
        </p:nvSpPr>
        <p:spPr>
          <a:xfrm>
            <a:off x="3243600" y="5943600"/>
            <a:ext cx="28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aken from Reynolds’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Spectrogram – What is?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774396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irst machines were analog, but has a clear digital interpretation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5562720" cy="16765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2743200" y="2362320"/>
            <a:ext cx="1576440" cy="8380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3048120" y="2362320"/>
            <a:ext cx="1346040" cy="838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124080" y="3048120"/>
            <a:ext cx="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4114800"/>
            <a:ext cx="1524240" cy="68580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4343400"/>
            <a:ext cx="747720" cy="228600"/>
          </a:xfrm>
          <a:prstGeom prst="rightArrow">
            <a:avLst>
              <a:gd name="adj1" fmla="val 50000"/>
              <a:gd name="adj2" fmla="val 817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4114800"/>
            <a:ext cx="1524240" cy="68580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gn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6705720" y="3200400"/>
            <a:ext cx="2948040" cy="22114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6805440" y="5103720"/>
            <a:ext cx="2338560" cy="17542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352680" y="3048120"/>
            <a:ext cx="0" cy="106668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4648320"/>
            <a:ext cx="761760" cy="152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4800600"/>
            <a:ext cx="914400" cy="114300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43800" cy="5656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 Narrow"/>
              </a:rPr>
              <a:t>Spectrogram – Example</a:t>
            </a:r>
            <a:endParaRPr b="1" lang="en-US" sz="3600" spc="-1" strike="noStrike">
              <a:solidFill>
                <a:srgbClr val="990000"/>
              </a:solidFill>
              <a:latin typeface="Arial Narrow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 Narrow"/>
              </a:rPr>
              <a:t>Spectrogram – Example of distinction</a:t>
            </a:r>
            <a:endParaRPr b="1" lang="en-US" sz="3600" spc="-1" strike="noStrike">
              <a:solidFill>
                <a:srgbClr val="990000"/>
              </a:solidFill>
              <a:latin typeface="Arial Narrow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3871800" cy="29034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572000" y="1143000"/>
            <a:ext cx="3871800" cy="29034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485320" y="411480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ale “0-1-2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15280" y="411480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ahoma"/>
              </a:rPr>
              <a:t>Female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Tahoma"/>
              </a:rPr>
              <a:t>“0-1-2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rId3"/>
          </p:cNvPr>
          <p:cNvSpPr/>
          <p:nvPr/>
        </p:nvSpPr>
        <p:spPr>
          <a:xfrm>
            <a:off x="7543800" y="4038480"/>
            <a:ext cx="509760" cy="5335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33520"/>
              <a:gd name="textAreaBottom" fmla="*/ 500760 h 533520"/>
            </a:gdLst>
            <a:ahLst/>
            <a:rect l="textAreaLeft" t="textAreaTop" r="textAreaRight" b="textAreaBottom"/>
            <a:pathLst>
              <a:path w="21600" h="22606">
                <a:moveTo>
                  <a:pt x="0" y="0"/>
                </a:moveTo>
                <a:lnTo>
                  <a:pt x="21600" y="0"/>
                </a:lnTo>
                <a:lnTo>
                  <a:pt x="21600" y="22606"/>
                </a:lnTo>
                <a:lnTo>
                  <a:pt x="0" y="22606"/>
                </a:lnTo>
                <a:close/>
              </a:path>
              <a:path fill="lightenLess" w="21600" h="226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06">
                <a:moveTo>
                  <a:pt x="21600" y="0"/>
                </a:moveTo>
                <a:lnTo>
                  <a:pt x="21600" y="22606"/>
                </a:lnTo>
                <a:lnTo>
                  <a:pt x="20200" y="21206"/>
                </a:lnTo>
                <a:lnTo>
                  <a:pt x="20200" y="1400"/>
                </a:lnTo>
                <a:close/>
              </a:path>
              <a:path fill="darkenLess" w="21600" h="22606">
                <a:moveTo>
                  <a:pt x="21600" y="22606"/>
                </a:moveTo>
                <a:lnTo>
                  <a:pt x="0" y="22606"/>
                </a:lnTo>
                <a:lnTo>
                  <a:pt x="1400" y="21206"/>
                </a:lnTo>
                <a:lnTo>
                  <a:pt x="20200" y="21206"/>
                </a:lnTo>
                <a:close/>
              </a:path>
              <a:path fill="lighten" w="21600" h="22606">
                <a:moveTo>
                  <a:pt x="0" y="226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06"/>
                </a:lnTo>
                <a:close/>
              </a:path>
              <a:path fill="darken" w="21600" h="22606">
                <a:moveTo>
                  <a:pt x="3794" y="8910"/>
                </a:moveTo>
                <a:lnTo>
                  <a:pt x="8224" y="8910"/>
                </a:lnTo>
                <a:lnTo>
                  <a:pt x="12645" y="4297"/>
                </a:lnTo>
                <a:lnTo>
                  <a:pt x="12645" y="18310"/>
                </a:lnTo>
                <a:lnTo>
                  <a:pt x="8224" y="13697"/>
                </a:lnTo>
                <a:lnTo>
                  <a:pt x="3794" y="13697"/>
                </a:lnTo>
                <a:close/>
              </a:path>
              <a:path fill="darken" w="21600" h="22606">
                <a:moveTo>
                  <a:pt x="14299" y="11303"/>
                </a:moveTo>
                <a:lnTo>
                  <a:pt x="17806" y="11303"/>
                </a:lnTo>
              </a:path>
              <a:path fill="darken" w="21600" h="22606">
                <a:moveTo>
                  <a:pt x="14299" y="8910"/>
                </a:moveTo>
                <a:lnTo>
                  <a:pt x="17806" y="6142"/>
                </a:lnTo>
              </a:path>
              <a:path fill="darken" w="21600" h="22606">
                <a:moveTo>
                  <a:pt x="14299" y="13697"/>
                </a:moveTo>
                <a:lnTo>
                  <a:pt x="17806" y="1646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rId4"/>
          </p:cNvPr>
          <p:cNvSpPr/>
          <p:nvPr/>
        </p:nvSpPr>
        <p:spPr>
          <a:xfrm>
            <a:off x="3581280" y="4038480"/>
            <a:ext cx="509760" cy="5335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33520"/>
              <a:gd name="textAreaBottom" fmla="*/ 500760 h 533520"/>
            </a:gdLst>
            <a:ahLst/>
            <a:rect l="textAreaLeft" t="textAreaTop" r="textAreaRight" b="textAreaBottom"/>
            <a:pathLst>
              <a:path w="21600" h="22606">
                <a:moveTo>
                  <a:pt x="0" y="0"/>
                </a:moveTo>
                <a:lnTo>
                  <a:pt x="21600" y="0"/>
                </a:lnTo>
                <a:lnTo>
                  <a:pt x="21600" y="22606"/>
                </a:lnTo>
                <a:lnTo>
                  <a:pt x="0" y="22606"/>
                </a:lnTo>
                <a:close/>
              </a:path>
              <a:path fill="lightenLess" w="21600" h="226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06">
                <a:moveTo>
                  <a:pt x="21600" y="0"/>
                </a:moveTo>
                <a:lnTo>
                  <a:pt x="21600" y="22606"/>
                </a:lnTo>
                <a:lnTo>
                  <a:pt x="20200" y="21206"/>
                </a:lnTo>
                <a:lnTo>
                  <a:pt x="20200" y="1400"/>
                </a:lnTo>
                <a:close/>
              </a:path>
              <a:path fill="darkenLess" w="21600" h="22606">
                <a:moveTo>
                  <a:pt x="21600" y="22606"/>
                </a:moveTo>
                <a:lnTo>
                  <a:pt x="0" y="22606"/>
                </a:lnTo>
                <a:lnTo>
                  <a:pt x="1400" y="21206"/>
                </a:lnTo>
                <a:lnTo>
                  <a:pt x="20200" y="21206"/>
                </a:lnTo>
                <a:close/>
              </a:path>
              <a:path fill="lighten" w="21600" h="22606">
                <a:moveTo>
                  <a:pt x="0" y="226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06"/>
                </a:lnTo>
                <a:close/>
              </a:path>
              <a:path fill="darken" w="21600" h="22606">
                <a:moveTo>
                  <a:pt x="3794" y="8910"/>
                </a:moveTo>
                <a:lnTo>
                  <a:pt x="8224" y="8910"/>
                </a:lnTo>
                <a:lnTo>
                  <a:pt x="12645" y="4297"/>
                </a:lnTo>
                <a:lnTo>
                  <a:pt x="12645" y="18310"/>
                </a:lnTo>
                <a:lnTo>
                  <a:pt x="8224" y="13697"/>
                </a:lnTo>
                <a:lnTo>
                  <a:pt x="3794" y="13697"/>
                </a:lnTo>
                <a:close/>
              </a:path>
              <a:path fill="darken" w="21600" h="22606">
                <a:moveTo>
                  <a:pt x="14299" y="11303"/>
                </a:moveTo>
                <a:lnTo>
                  <a:pt x="17806" y="11303"/>
                </a:lnTo>
              </a:path>
              <a:path fill="darken" w="21600" h="22606">
                <a:moveTo>
                  <a:pt x="14299" y="8910"/>
                </a:moveTo>
                <a:lnTo>
                  <a:pt x="17806" y="6142"/>
                </a:lnTo>
              </a:path>
              <a:path fill="darken" w="21600" h="22606">
                <a:moveTo>
                  <a:pt x="14299" y="13697"/>
                </a:moveTo>
                <a:lnTo>
                  <a:pt x="17806" y="1646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 Narrow"/>
              </a:rPr>
              <a:t>Phonetics and Phonemics - Introduction</a:t>
            </a:r>
            <a:endParaRPr b="1" lang="en-US" sz="36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2666880" y="1752480"/>
            <a:ext cx="4267440" cy="8384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ing of what is being sai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38280" y="4038480"/>
            <a:ext cx="4724640" cy="9144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s of what is being sai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28954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18440" y="320040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ahoma"/>
              </a:rPr>
              <a:t>Phone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81840" y="320040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ahoma"/>
              </a:rPr>
              <a:t>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4720" y="198108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emant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6880" y="426708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yntact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6480" y="320040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apping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563868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ives insights into why adults have difficulties learning foreign langu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Phonetics – Phonemes and Phones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Phones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are</a:t>
            </a: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he basic units of sound in a language. (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syntatic, articulation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honeme is a group of phones carrying the same meaning. (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semantic, language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Allophones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are phones in a phoneme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Number of phones are infinite, but tend to be clustered into 20-60 phonemes, each language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ound of phonemes heavily speaker dependent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About myself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ttained my Ph.D. at Queensland University of Technology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hesis topic was “Audio-visual speech processing”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onducted research in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53760" indent="-2512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dio-visual speaker 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dio-visual speech 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ifier combination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al feature de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ome from a “relatively” strong speech background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Phonemics - Coarticulation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hones are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executed uniformly, independent of context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hone is a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target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at which speech mechanism aims at, rarely achieve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n most cases gets close enough to be intelligible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ynthesis and recognition systems must model this coarticulation (diphones,triphones)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Phonemics – What is?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Phoneme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is the basic unit of speech which can change the meaning of a word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Number of phonemes in a language may vary (eg. 11 in Rotokas (Papua New Guinea) to 141 in Xu! (Kalahari))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0" name=""/>
          <p:cNvSpPr/>
          <p:nvPr/>
        </p:nvSpPr>
        <p:spPr>
          <a:xfrm>
            <a:off x="2424960" y="495288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04880" y="4952880"/>
            <a:ext cx="114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r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8600" y="5029200"/>
            <a:ext cx="15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Te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tran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01400" y="5791320"/>
            <a:ext cx="15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Phone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tran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55320" y="5791320"/>
            <a:ext cx="15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d/ /ow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81080" y="4800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64008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57150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4800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14800" y="4800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534520" y="4800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4876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80880" y="5791320"/>
            <a:ext cx="24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b/ /ah/ /r/ /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Phonemics – Allophone example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Example of allophone can be found in words “pin” and “spin”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Latter sounds more like a /b/ than /p/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Allophones are heavily contextual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No difference in meaning,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" name=""/>
          <p:cNvSpPr/>
          <p:nvPr/>
        </p:nvSpPr>
        <p:spPr>
          <a:xfrm>
            <a:off x="1906920" y="4648320"/>
            <a:ext cx="243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s/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/p/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/ih/ /n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0600" y="5867280"/>
            <a:ext cx="243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s/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/b/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/ih/ /n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54440" y="5081760"/>
            <a:ext cx="161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= “sp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666880" y="5257800"/>
            <a:ext cx="181080" cy="609480"/>
          </a:xfrm>
          <a:prstGeom prst="upDownArrow">
            <a:avLst>
              <a:gd name="adj1" fmla="val 50000"/>
              <a:gd name="adj2" fmla="val 67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 Narrow"/>
              </a:rPr>
              <a:t>Phonemics - Clustering of phonemes</a:t>
            </a:r>
            <a:endParaRPr b="1" lang="en-US" sz="3600" spc="-1" strike="noStrike">
              <a:solidFill>
                <a:srgbClr val="990000"/>
              </a:solidFill>
              <a:latin typeface="Arial Narrow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70102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 Narrow"/>
              </a:rPr>
              <a:t>Syllables and Words – Putting it together</a:t>
            </a:r>
            <a:endParaRPr b="1" lang="en-US" sz="36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42" name=""/>
          <p:cNvSpPr/>
          <p:nvPr/>
        </p:nvSpPr>
        <p:spPr>
          <a:xfrm>
            <a:off x="2895480" y="5715000"/>
            <a:ext cx="3581640" cy="60948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495680" y="5257800"/>
            <a:ext cx="38124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4572000"/>
            <a:ext cx="3581280" cy="60948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ll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43200" y="3429000"/>
            <a:ext cx="3581280" cy="60948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495680" y="4114800"/>
            <a:ext cx="38124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8560" y="5029200"/>
            <a:ext cx="21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arti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666880" y="5486400"/>
            <a:ext cx="17528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0800" y="3276720"/>
            <a:ext cx="124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rosi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905120" y="365760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0" y="3657600"/>
            <a:ext cx="0" cy="609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0" y="4267080"/>
            <a:ext cx="20574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0" y="3048120"/>
            <a:ext cx="0" cy="609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0" y="3048120"/>
            <a:ext cx="20574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43200" y="2286000"/>
            <a:ext cx="3581280" cy="60948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2971800"/>
            <a:ext cx="38124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35280" y="4419720"/>
            <a:ext cx="28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ocal power maximu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nerally associated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we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 Narrow"/>
              </a:rPr>
              <a:t>Prosidy – What is?</a:t>
            </a:r>
            <a:endParaRPr b="1" lang="en-US" sz="36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Prosodics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, term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iven to aspects of speech that span groups or syllables or word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nterested in pitch (intonation) and stres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tress reflects degree of emphasis with which a word or syllable is spoken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Over phrases and sentences, prosidy gives shades of meaning beyond words themselve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venue for future research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1371600" y="1905120"/>
            <a:ext cx="6934320" cy="2590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estions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2133720" y="1905120"/>
            <a:ext cx="4724280" cy="2590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reak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914400" y="1066680"/>
            <a:ext cx="7772400" cy="4648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ront-en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cessin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Front-end processing - Introduction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onsists of three processes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spcBef>
                <a:spcPts val="799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non-speech portions from the sig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799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ature extr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799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nel compens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838080" y="1523880"/>
            <a:ext cx="7620120" cy="457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eech Processin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ackgroun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Speech detector - Introduction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827712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lethora of techniques for removing silence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ependent on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dependent (statistical silence mode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independent (energy bas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enerally speech detector discards 20-25% of the signal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50292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(Talk about statistical models la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Speech detector – Energy based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57200" y="1262160"/>
            <a:ext cx="8458200" cy="24098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2209680" y="1752480"/>
            <a:ext cx="1257480" cy="9432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 flipH="1" rot="10800000">
            <a:off x="457200" y="2513880"/>
            <a:ext cx="8001000" cy="10666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 flipV="1">
            <a:off x="2895480" y="16765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313080" y="1295280"/>
            <a:ext cx="4164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short-tim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88560" y="3809880"/>
            <a:ext cx="369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long-tim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4876560" y="365760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le to estimate SNR at tim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505320" y="4800600"/>
                <a:ext cx="335268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t</m:t>
                                </m:r>
                              </m:sub>
                            </m:sSub>
                          </m:e>
                        </m:d>
                      </m:den>
                    </m:f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activity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no activity</m:t>
                          </m:r>
                        </m:e>
                      </m:mr>
                    </m:m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N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2666880" y="5562720"/>
            <a:ext cx="671760" cy="304560"/>
          </a:xfrm>
          <a:prstGeom prst="rightArrow">
            <a:avLst>
              <a:gd name="adj1" fmla="val 50000"/>
              <a:gd name="adj2" fmla="val 551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238880" y="480060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ir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6934320" y="54864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Speech detector – Example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3429000" cy="1828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6553080" cy="19810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6514560" y="1371600"/>
            <a:ext cx="20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Silence remo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761160" y="373392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With sil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>
            <a:hlinkClick r:id="rId3"/>
          </p:cNvPr>
          <p:cNvSpPr/>
          <p:nvPr/>
        </p:nvSpPr>
        <p:spPr>
          <a:xfrm>
            <a:off x="7162920" y="1828800"/>
            <a:ext cx="662040" cy="609480"/>
          </a:xfrm>
          <a:custGeom>
            <a:avLst/>
            <a:gdLst>
              <a:gd name="textAreaLeft" fmla="*/ 39240 w 662040"/>
              <a:gd name="textAreaRight" fmla="*/ 622800 w 6620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3462" h="21600">
                <a:moveTo>
                  <a:pt x="0" y="0"/>
                </a:moveTo>
                <a:lnTo>
                  <a:pt x="23462" y="0"/>
                </a:lnTo>
                <a:lnTo>
                  <a:pt x="23462" y="21600"/>
                </a:lnTo>
                <a:lnTo>
                  <a:pt x="0" y="21600"/>
                </a:lnTo>
                <a:close/>
              </a:path>
              <a:path fill="lightenLess" w="23462" h="21600">
                <a:moveTo>
                  <a:pt x="0" y="0"/>
                </a:moveTo>
                <a:lnTo>
                  <a:pt x="23462" y="0"/>
                </a:lnTo>
                <a:lnTo>
                  <a:pt x="22062" y="1400"/>
                </a:lnTo>
                <a:lnTo>
                  <a:pt x="1400" y="1400"/>
                </a:lnTo>
                <a:close/>
              </a:path>
              <a:path fill="darken" w="23462" h="21600">
                <a:moveTo>
                  <a:pt x="23462" y="0"/>
                </a:moveTo>
                <a:lnTo>
                  <a:pt x="23462" y="21600"/>
                </a:lnTo>
                <a:lnTo>
                  <a:pt x="22062" y="20200"/>
                </a:lnTo>
                <a:lnTo>
                  <a:pt x="22062" y="1400"/>
                </a:lnTo>
                <a:close/>
              </a:path>
              <a:path fill="darkenLess" w="23462" h="21600">
                <a:moveTo>
                  <a:pt x="23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62" y="20200"/>
                </a:lnTo>
                <a:close/>
              </a:path>
              <a:path fill="lighten" w="23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62" h="21600">
                <a:moveTo>
                  <a:pt x="4724" y="3794"/>
                </a:moveTo>
                <a:lnTo>
                  <a:pt x="18737" y="10800"/>
                </a:lnTo>
                <a:lnTo>
                  <a:pt x="472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>
            <a:hlinkClick r:id="rId4"/>
          </p:cNvPr>
          <p:cNvSpPr/>
          <p:nvPr/>
        </p:nvSpPr>
        <p:spPr>
          <a:xfrm>
            <a:off x="7162920" y="4191120"/>
            <a:ext cx="662040" cy="609480"/>
          </a:xfrm>
          <a:custGeom>
            <a:avLst/>
            <a:gdLst>
              <a:gd name="textAreaLeft" fmla="*/ 39240 w 662040"/>
              <a:gd name="textAreaRight" fmla="*/ 622800 w 6620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3462" h="21600">
                <a:moveTo>
                  <a:pt x="0" y="0"/>
                </a:moveTo>
                <a:lnTo>
                  <a:pt x="23462" y="0"/>
                </a:lnTo>
                <a:lnTo>
                  <a:pt x="23462" y="21600"/>
                </a:lnTo>
                <a:lnTo>
                  <a:pt x="0" y="21600"/>
                </a:lnTo>
                <a:close/>
              </a:path>
              <a:path fill="lightenLess" w="23462" h="21600">
                <a:moveTo>
                  <a:pt x="0" y="0"/>
                </a:moveTo>
                <a:lnTo>
                  <a:pt x="23462" y="0"/>
                </a:lnTo>
                <a:lnTo>
                  <a:pt x="22062" y="1400"/>
                </a:lnTo>
                <a:lnTo>
                  <a:pt x="1400" y="1400"/>
                </a:lnTo>
                <a:close/>
              </a:path>
              <a:path fill="darken" w="23462" h="21600">
                <a:moveTo>
                  <a:pt x="23462" y="0"/>
                </a:moveTo>
                <a:lnTo>
                  <a:pt x="23462" y="21600"/>
                </a:lnTo>
                <a:lnTo>
                  <a:pt x="22062" y="20200"/>
                </a:lnTo>
                <a:lnTo>
                  <a:pt x="22062" y="1400"/>
                </a:lnTo>
                <a:close/>
              </a:path>
              <a:path fill="darkenLess" w="23462" h="21600">
                <a:moveTo>
                  <a:pt x="23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62" y="20200"/>
                </a:lnTo>
                <a:close/>
              </a:path>
              <a:path fill="lighten" w="23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62" h="21600">
                <a:moveTo>
                  <a:pt x="4724" y="3794"/>
                </a:moveTo>
                <a:lnTo>
                  <a:pt x="18737" y="10800"/>
                </a:lnTo>
                <a:lnTo>
                  <a:pt x="472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95280" y="5562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chniques can be improved using zero crossing rates, or statistical silence mod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Feature extraction - Philosophy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al world events can be observed from an infinite number of perspective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Have to restrict perspective to a finite feature space (i.e. feature extraction)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deal feature extraction obtains an representation of an real world event that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suitable class distinction for the task at hand (i.e. speaker verific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nvariant to unwanted transform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5638680" y="5334120"/>
            <a:ext cx="1447920" cy="914400"/>
          </a:xfrm>
          <a:custGeom>
            <a:avLst/>
            <a:gdLst>
              <a:gd name="textAreaLeft" fmla="*/ 482760 w 1447920"/>
              <a:gd name="textAreaRight" fmla="*/ 1240200 w 1447920"/>
              <a:gd name="textAreaTop" fmla="*/ 526680 h 914400"/>
              <a:gd name="textAreaBottom" fmla="*/ 783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86000" y="5410080"/>
            <a:ext cx="1447920" cy="914400"/>
          </a:xfrm>
          <a:custGeom>
            <a:avLst/>
            <a:gdLst>
              <a:gd name="textAreaLeft" fmla="*/ 482760 w 1447920"/>
              <a:gd name="textAreaRight" fmla="*/ 1240200 w 1447920"/>
              <a:gd name="textAreaTop" fmla="*/ 526680 h 914400"/>
              <a:gd name="textAreaBottom" fmla="*/ 783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Pattern Recognition – Classical 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94" name=""/>
          <p:cNvSpPr/>
          <p:nvPr/>
        </p:nvSpPr>
        <p:spPr>
          <a:xfrm>
            <a:off x="5562720" y="4343400"/>
            <a:ext cx="2133360" cy="9144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4419720"/>
            <a:ext cx="2133360" cy="9144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343400" y="4724280"/>
            <a:ext cx="900000" cy="304920"/>
          </a:xfrm>
          <a:prstGeom prst="rightArrow">
            <a:avLst>
              <a:gd name="adj1" fmla="val 50000"/>
              <a:gd name="adj2" fmla="val 737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895480" y="5410080"/>
            <a:ext cx="3429000" cy="1447920"/>
          </a:xfrm>
          <a:prstGeom prst="irregularSeal2">
            <a:avLst/>
          </a:prstGeom>
          <a:solidFill>
            <a:srgbClr val="ff505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753000" y="5791320"/>
            <a:ext cx="20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inction is 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ways cl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28800" y="1676520"/>
            <a:ext cx="2133720" cy="91440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5400000">
            <a:off x="2168280" y="3394080"/>
            <a:ext cx="1600200" cy="298440"/>
          </a:xfrm>
          <a:prstGeom prst="rightArrow">
            <a:avLst>
              <a:gd name="adj1" fmla="val 50000"/>
              <a:gd name="adj2" fmla="val 1340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486400" y="1600200"/>
            <a:ext cx="2133720" cy="91440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i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 rot="16200000">
            <a:off x="5978160" y="3317040"/>
            <a:ext cx="1600200" cy="298440"/>
          </a:xfrm>
          <a:prstGeom prst="rightArrow">
            <a:avLst>
              <a:gd name="adj1" fmla="val 50000"/>
              <a:gd name="adj2" fmla="val 1340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1720" y="3276720"/>
            <a:ext cx="25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eep class distinc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move unwa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ri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0280" y="2743200"/>
            <a:ext cx="213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neralize to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cision boundaries, with minimal training observ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Feature extraction – Speech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34290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any ways to discriminate speakers based on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nt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ss/Energ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atio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tch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"/>
          <p:cNvSpPr/>
          <p:nvPr/>
        </p:nvSpPr>
        <p:spPr>
          <a:xfrm>
            <a:off x="3657600" y="3124080"/>
            <a:ext cx="1219320" cy="790560"/>
          </a:xfrm>
          <a:prstGeom prst="rightArrow">
            <a:avLst>
              <a:gd name="adj1" fmla="val 50000"/>
              <a:gd name="adj2" fmla="val 385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181480" y="2895480"/>
            <a:ext cx="3657600" cy="106704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Most of these can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found from the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Features – Quantizing the Spectrum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96240" cy="49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Generally agreed that best representation comes from analysing the spectrum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447840" indent="-44784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echniques differ mainly in how they quantize the spectrum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447840" indent="-44784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wo basic approaches available,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821160" indent="-372960">
              <a:spcBef>
                <a:spcPts val="799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prediction analysis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1160" indent="-372960">
              <a:spcBef>
                <a:spcPts val="799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ter bank analy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echniques very similar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821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Features – Linear predictive analysis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38280" y="1262160"/>
            <a:ext cx="789624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ttempts to model speech process using an all pole filter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2819520" y="2362320"/>
                <a:ext cx="3352680" cy="17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685800" y="3962520"/>
            <a:ext cx="789624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its linear prediction coefficients (LPC) to minimize the mean square error for a window of spee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agnitude response of filter represents spectral envelope of speech wind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Features – Linear predictive analysis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38280" y="1262160"/>
            <a:ext cx="789624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ased on the excitation-modulation model of the vocal tract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1905120" y="2590920"/>
                <a:ext cx="44193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1371600" y="3962520"/>
            <a:ext cx="6095880" cy="2286000"/>
          </a:xfrm>
          <a:prstGeom prst="flowChartAlternateProcess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529280" y="3962520"/>
            <a:ext cx="583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(f) =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 of speech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(f) =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ttal excitation 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(f) =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l tract transfer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Features – Excitation-modulation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170840" cy="4172040"/>
          </a:xfrm>
          <a:prstGeom prst="rect">
            <a:avLst/>
          </a:prstGeom>
          <a:ln w="0">
            <a:noFill/>
          </a:ln>
        </p:spPr>
      </p:pic>
      <p:grpSp>
        <p:nvGrpSpPr>
          <p:cNvPr id="322" name=""/>
          <p:cNvGrpSpPr/>
          <p:nvPr/>
        </p:nvGrpSpPr>
        <p:grpSpPr>
          <a:xfrm>
            <a:off x="1752480" y="1143000"/>
            <a:ext cx="1295280" cy="914400"/>
            <a:chOff x="1752480" y="1143000"/>
            <a:chExt cx="1295280" cy="914400"/>
          </a:xfrm>
        </p:grpSpPr>
        <p:sp>
          <p:nvSpPr>
            <p:cNvPr id="323" name=""/>
            <p:cNvSpPr/>
            <p:nvPr/>
          </p:nvSpPr>
          <p:spPr>
            <a:xfrm>
              <a:off x="1752480" y="1143000"/>
              <a:ext cx="1295280" cy="914400"/>
            </a:xfrm>
            <a:prstGeom prst="irregularSeal2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962360" y="1371600"/>
              <a:ext cx="77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(f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3809880" y="1143000"/>
            <a:ext cx="1295280" cy="914400"/>
            <a:chOff x="3809880" y="1143000"/>
            <a:chExt cx="1295280" cy="914400"/>
          </a:xfrm>
        </p:grpSpPr>
        <p:sp>
          <p:nvSpPr>
            <p:cNvPr id="326" name=""/>
            <p:cNvSpPr/>
            <p:nvPr/>
          </p:nvSpPr>
          <p:spPr>
            <a:xfrm>
              <a:off x="3809880" y="1143000"/>
              <a:ext cx="1295280" cy="914400"/>
            </a:xfrm>
            <a:prstGeom prst="irregularSeal2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19760" y="1371600"/>
              <a:ext cx="77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(f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095880" y="1066680"/>
            <a:ext cx="1295280" cy="914400"/>
            <a:chOff x="6095880" y="1066680"/>
            <a:chExt cx="1295280" cy="914400"/>
          </a:xfrm>
        </p:grpSpPr>
        <p:sp>
          <p:nvSpPr>
            <p:cNvPr id="329" name=""/>
            <p:cNvSpPr/>
            <p:nvPr/>
          </p:nvSpPr>
          <p:spPr>
            <a:xfrm>
              <a:off x="6095880" y="1066680"/>
              <a:ext cx="1295280" cy="914400"/>
            </a:xfrm>
            <a:prstGeom prst="irregularSeal2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326280" y="1295280"/>
              <a:ext cx="73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(f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Background – Voice Biometric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Speaker verification relies on what is often referred to as a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voice biometric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Biometric 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s defined as the recognition of a person based on his/her personal traits. 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Features – Robust representation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38280" y="1262160"/>
            <a:ext cx="7896240" cy="24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LPC form is not robust to distortions of mismatches between train/test conditions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Employ a cepstral representation,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1143000" y="3733920"/>
                <a:ext cx="632448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1828800" y="4876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terative rel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5257800"/>
            <a:ext cx="7896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Known as linear predictive cepstral coefficients (LPCCs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Cepstrum – Introduction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37920" y="1261800"/>
            <a:ext cx="850572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he cepstrum is the inverse Fourier (or similar) transform of the logarithm of its power spectrum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irst coined by J. R. Turkey in 1963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s the name suggests the cepstrum operation turns the spectrum “inside out”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8" name=""/>
          <p:cNvSpPr/>
          <p:nvPr/>
        </p:nvSpPr>
        <p:spPr>
          <a:xfrm>
            <a:off x="2801880" y="4064040"/>
            <a:ext cx="17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pe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505320" y="4572000"/>
            <a:ext cx="485640" cy="685800"/>
          </a:xfrm>
          <a:prstGeom prst="downArrow">
            <a:avLst>
              <a:gd name="adj1" fmla="val 50000"/>
              <a:gd name="adj2" fmla="val 353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830320" y="5334120"/>
            <a:ext cx="17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ep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971800" y="4038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3047760" y="5410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Cepstral features – Definition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an be defined as,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143000" y="2057400"/>
                <a:ext cx="59436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T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|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1600200" y="2819520"/>
            <a:ext cx="5410080" cy="1981080"/>
          </a:xfrm>
          <a:prstGeom prst="flowChartAlternateProcess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38000" y="2819520"/>
            <a:ext cx="5380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(q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cepstrum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{}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transform (usually D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quef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Cepstral features - Benefits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hannel effects become additive </a:t>
            </a:r>
            <a:r>
              <a:rPr b="1" lang="en-US" sz="3600" spc="-1" strike="noStrike">
                <a:solidFill>
                  <a:srgbClr val="3333cc"/>
                </a:solidFill>
                <a:latin typeface="Arial Narrow"/>
              </a:rPr>
              <a:t>(more on this)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eatures are uncorrelated due to transform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{}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(usually DCT)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Robust to distortions and channel effects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0" name=""/>
          <p:cNvSpPr/>
          <p:nvPr/>
        </p:nvSpPr>
        <p:spPr>
          <a:xfrm>
            <a:off x="1905120" y="4038480"/>
            <a:ext cx="8229600" cy="3276720"/>
          </a:xfrm>
          <a:prstGeom prst="irregularSeal2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these properti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pstral representations alm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us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Features – Filterbank analysis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ased on how human ear resolves frequencies non-linearly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ore direct than LPCC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ccesses spectrum directly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ins the magnitud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of each non-linearly placed filter bank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ses triangular mel-scaled filterbank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Features – Mel-scale 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8381880" cy="3790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676520" y="1905120"/>
                <a:ext cx="525780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l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95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0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el-scale defined as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Features – MFCCs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lso uses cepstral representation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219320" y="2057400"/>
                <a:ext cx="601956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e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533520" y="3276720"/>
            <a:ext cx="78962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ferred to as Mel-frequency cepstral coefficients (MFCC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676520" y="4419720"/>
            <a:ext cx="5333760" cy="1904760"/>
          </a:xfrm>
          <a:prstGeom prst="flowChartAlternateProcess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705680" y="4724280"/>
            <a:ext cx="51674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number of filter b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th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ter bank energy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Comparison – LPCCs vs MFCCs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oth techniques obtain similar results (differ only quantization of magnitude spectrum)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t the moment MFCCs have been shown empirically to perform best for the task of speaker verification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Channel Compensation - Introduction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Large problem in pattern recognition community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Known more generically as “train/test” mismatch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Occurs when conditions for training differ from testing (real world problem)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Need intelligent approaches to generalize knowledge to make confident decisions in these unknown condition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Channel Compensation – Difficulties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Human produced sound artifac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p smacks, heavy breathing, clicks, po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istortion in transmission system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 talk, intermodulation distortion, tonal inter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nvironmental condition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onary noise (fans, machinery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stationary noise (door slams, road noi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interference (TV, radio, other talk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tile environments (speech in st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Background - Why voice?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s an obvious modality to use, as we as humans use acoustic speech everyday to discern between different speaker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s not considered threatening by users; natural to most people to use phone or microphone (non-intrusive)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xisting telephone system provide a ubiquitous, familiar network of sensors for obtaining speech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Very mature field, as research has been carried out for the last four decade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Feature Compensation – Introduction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f one can provide invariance to these type of mismatches, at the feature level, the entire system will reap the benefit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Number of techniques can be employed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pstral weigh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pstral mean subtr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ta and acceleration coeffici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robust techniq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Compensation – Cepstral weighting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ttempts to compensate for the sensitivity of the low-order cepstral coefficients to overall spectral slope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lso addresses sensitivity to of high-order cepstral coefficients to noise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Known as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lift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ring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 Narrow"/>
              </a:rPr>
              <a:t>Compensation – Liftering</a:t>
            </a:r>
            <a:endParaRPr b="1" lang="en-US" sz="4800" spc="-1" strike="noStrike">
              <a:solidFill>
                <a:srgbClr val="990000"/>
              </a:solidFill>
              <a:latin typeface="Arial Narrow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7216920" cy="48974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 rot="16200000">
            <a:off x="1292040" y="369180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igh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51600" y="6248520"/>
            <a:ext cx="28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pstral coefficient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Compensation – Cepstral subtraction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38280" y="1262160"/>
            <a:ext cx="78962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hannel effects in cepstrum are additive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143000" y="1981080"/>
                <a:ext cx="563868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685800" y="3276720"/>
            <a:ext cx="78962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ssuming the mean of clean speech is zero, one can compensate for channel effec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16040" y="2590920"/>
            <a:ext cx="15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istor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762280" y="259092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lean spectrum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2209680" y="4343400"/>
                <a:ext cx="477540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762120" y="5257800"/>
            <a:ext cx="78962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Very dependent on the length of the speech segment, and stationar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Compensation – CMS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Often referred to as cepstral mean subtraction (CMS)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echnique works very well in noisy condition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ffects performance in clean condition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Compensation – Delta features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elta features operate under a similar philosophy to CM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nterested in the relative difference between adjacent feature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3352680" y="3048120"/>
                <a:ext cx="247680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0" name=""/>
          <p:cNvSpPr/>
          <p:nvPr/>
        </p:nvSpPr>
        <p:spPr>
          <a:xfrm>
            <a:off x="685800" y="3962520"/>
            <a:ext cx="789624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elta and static observation vectors usually concatenated into a single observation ve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Has been shown empirically to improve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Compensation – Other approaches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lative spectral (RASTA) technique has been investigated as another compensation technique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Works on the basis that the rate of change of nonlinguistic components in speech often lies outside the typical rate of change of the vocal-tract shape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ssentially tries to filter out these nonlinguistic component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Has shown some improvement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1371600" y="1905120"/>
            <a:ext cx="6934320" cy="2590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estions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2133720" y="1905120"/>
            <a:ext cx="4724280" cy="2590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reak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914400" y="1066680"/>
            <a:ext cx="7772400" cy="4648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eak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odelin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876920" y="4419720"/>
            <a:ext cx="4114800" cy="1295280"/>
          </a:xfrm>
          <a:prstGeom prst="rect">
            <a:avLst/>
          </a:prstGeom>
          <a:solidFill>
            <a:srgbClr val="99ccff"/>
          </a:solidFill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Applications - Introduction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64" name=""/>
          <p:cNvSpPr/>
          <p:nvPr/>
        </p:nvSpPr>
        <p:spPr>
          <a:xfrm>
            <a:off x="4880880" y="914400"/>
            <a:ext cx="39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Speech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19880" y="2590920"/>
            <a:ext cx="447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Language</a:t>
            </a: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96280" y="4572000"/>
            <a:ext cx="411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Speak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152388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am I saying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21360" y="3200400"/>
            <a:ext cx="36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language am I speaking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929560" y="518148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o is speaking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124080" y="152352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31240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3124080"/>
            <a:ext cx="152424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905120" y="38098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00400" y="3200400"/>
            <a:ext cx="152388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40320" y="4343400"/>
            <a:ext cx="7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76400" y="4343400"/>
            <a:ext cx="8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gn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2590920"/>
            <a:ext cx="2057400" cy="121896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3520" y="4572000"/>
            <a:ext cx="234792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Speaker Modeling - Introduction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37920" y="1261800"/>
            <a:ext cx="850572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peaker model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pkr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reated to approximate process of speech production for a speaker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Only concerned with discriminative process o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pkr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, not total proces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ood speaker model must be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>
              <a:spcBef>
                <a:spcPts val="799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a theoretical underpinning, allowing for extensions and improv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izable to new observ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simonious in size and compu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Speaker Modeling – Classifier Theory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37920" y="1261800"/>
            <a:ext cx="79722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terested in discrimination, not synthesis or coding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assifier theory gives a framework, for generating such model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ptimal classifier is Bayes classifier,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1447920" y="3429000"/>
                <a:ext cx="5867280" cy="21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pkr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spkr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bck</m:t>
                          </m:r>
                        </m:e>
                      </m:mr>
                    </m:m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1894320" y="3403440"/>
            <a:ext cx="399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atio of likelihoods betwe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peaker and general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223040" y="3657600"/>
            <a:ext cx="192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hreshold selected ba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FA and 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80240" y="5842080"/>
            <a:ext cx="86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lassifier can try and obtain likelihoods or decision boundary explici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Classifiers – Practical limitations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an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never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obtain true likelihood functions due to,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te number of training observation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known parametric form of process (i.e. hidden process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Given a finite and noisy data set different classifiers will realise different decision boundaries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762120" y="3200400"/>
            <a:ext cx="8381880" cy="3429000"/>
          </a:xfrm>
          <a:prstGeom prst="irregularSeal2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Classifiers – Optimal classifier?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erformance of classifier is heavily problem dependent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here is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no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one classifier that can solve all classifier problems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"/>
          <p:cNvSpPr/>
          <p:nvPr/>
        </p:nvSpPr>
        <p:spPr>
          <a:xfrm>
            <a:off x="1929240" y="4419720"/>
            <a:ext cx="525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ural network commun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lty of spreading this myth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Classifiers – Approaches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an only ever approach Bayesian classifier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Many different types of classifiers available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All can be derived in terms of trying to mimic the behavior of Bayes classifier using some assumptions.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5638680" y="5334120"/>
            <a:ext cx="1447920" cy="914400"/>
          </a:xfrm>
          <a:custGeom>
            <a:avLst/>
            <a:gdLst>
              <a:gd name="textAreaLeft" fmla="*/ 482760 w 1447920"/>
              <a:gd name="textAreaRight" fmla="*/ 1240200 w 1447920"/>
              <a:gd name="textAreaTop" fmla="*/ 526680 h 914400"/>
              <a:gd name="textAreaBottom" fmla="*/ 783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2286000" y="5410080"/>
            <a:ext cx="1447920" cy="914400"/>
          </a:xfrm>
          <a:custGeom>
            <a:avLst/>
            <a:gdLst>
              <a:gd name="textAreaLeft" fmla="*/ 482760 w 1447920"/>
              <a:gd name="textAreaRight" fmla="*/ 1240200 w 1447920"/>
              <a:gd name="textAreaTop" fmla="*/ 526680 h 914400"/>
              <a:gd name="textAreaBottom" fmla="*/ 783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Classifiers – Difference unclear? 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415" name=""/>
          <p:cNvSpPr/>
          <p:nvPr/>
        </p:nvSpPr>
        <p:spPr>
          <a:xfrm>
            <a:off x="5562720" y="4343400"/>
            <a:ext cx="2133360" cy="9144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905120" y="4419720"/>
            <a:ext cx="2133360" cy="9144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343400" y="4724280"/>
            <a:ext cx="900000" cy="304920"/>
          </a:xfrm>
          <a:prstGeom prst="rightArrow">
            <a:avLst>
              <a:gd name="adj1" fmla="val 50000"/>
              <a:gd name="adj2" fmla="val 737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895480" y="5410080"/>
            <a:ext cx="3429000" cy="1447920"/>
          </a:xfrm>
          <a:prstGeom prst="irregularSeal2">
            <a:avLst/>
          </a:prstGeom>
          <a:solidFill>
            <a:srgbClr val="ff505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53000" y="5791320"/>
            <a:ext cx="20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inction is 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ways cl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828800" y="1676520"/>
            <a:ext cx="2133720" cy="91440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rot="5400000">
            <a:off x="2168280" y="3394080"/>
            <a:ext cx="1600200" cy="298440"/>
          </a:xfrm>
          <a:prstGeom prst="rightArrow">
            <a:avLst>
              <a:gd name="adj1" fmla="val 50000"/>
              <a:gd name="adj2" fmla="val 1340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486400" y="1600200"/>
            <a:ext cx="2133720" cy="91440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i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 rot="16200000">
            <a:off x="5978160" y="3317040"/>
            <a:ext cx="1600200" cy="298440"/>
          </a:xfrm>
          <a:prstGeom prst="rightArrow">
            <a:avLst>
              <a:gd name="adj1" fmla="val 50000"/>
              <a:gd name="adj2" fmla="val 1340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1720" y="3276720"/>
            <a:ext cx="25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eep class distinc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move unwa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ri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010280" y="2743200"/>
            <a:ext cx="213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neralize to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cision boundaries, with minimal training observ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Classifiers – Assumptions for speech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38280" y="1262160"/>
            <a:ext cx="78199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o start with deal only with text-independent scenario </a:t>
            </a:r>
            <a:r>
              <a:rPr b="1" lang="en-US" sz="3200" spc="-1" strike="noStrike">
                <a:solidFill>
                  <a:srgbClr val="00cc99"/>
                </a:solidFill>
                <a:latin typeface="Arial Narrow"/>
              </a:rPr>
              <a:t>(text dependence later)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-31896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ssume a given utterance takes the form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2819520" y="3124080"/>
                <a:ext cx="28954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9" name=""/>
          <p:cNvSpPr/>
          <p:nvPr/>
        </p:nvSpPr>
        <p:spPr>
          <a:xfrm>
            <a:off x="609480" y="4038480"/>
            <a:ext cx="782028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whe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s a D dimensional observation vector (typically cepstral coefficien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ssume independence such th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1905120" y="5508720"/>
                <a:ext cx="483876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Classifier – Assumptions for speech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ssumes no hidden processes for speech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pproximation is sufficient for text-independent case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ext dependent case more difficult, have to assume a hidden proces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ext-independent case translates up to text-dependent case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ext-independent classifiers are used as building blocks for modeling the text-dependent hidden proces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Classifier – Speaker distinction?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ifferent problems require different approaches to classification, e.g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5" name=""/>
          <p:cNvSpPr/>
          <p:nvPr/>
        </p:nvSpPr>
        <p:spPr>
          <a:xfrm>
            <a:off x="1295280" y="4267080"/>
            <a:ext cx="2133720" cy="15242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998640" y="2895480"/>
            <a:ext cx="27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Face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334120" y="4267080"/>
            <a:ext cx="2133360" cy="15242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613400" y="2895480"/>
            <a:ext cx="32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ahoma"/>
              </a:rPr>
              <a:t>Speaker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33720" y="3429000"/>
            <a:ext cx="409320" cy="609480"/>
          </a:xfrm>
          <a:prstGeom prst="downArrow">
            <a:avLst>
              <a:gd name="adj1" fmla="val 50000"/>
              <a:gd name="adj2" fmla="val 372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248520" y="3429000"/>
            <a:ext cx="409320" cy="609480"/>
          </a:xfrm>
          <a:prstGeom prst="downArrow">
            <a:avLst>
              <a:gd name="adj1" fmla="val 50000"/>
              <a:gd name="adj2" fmla="val 372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Classifier – Speaker distinction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503280" y="762120"/>
            <a:ext cx="864072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Applications - Speaker Recognition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37920" y="1261800"/>
            <a:ext cx="7972200" cy="21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peaker recognition encapsulates two tasks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45680" indent="-171360"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peaker identifica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sk of determining who is talking from a set of known voi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5680" indent="-171360"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peaker verification:</a:t>
            </a:r>
            <a:r>
              <a:rPr b="0" lang="en-US" sz="28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sk of determining whether a person is who he/she clai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Other pseudonyms for speaker verification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45680" indent="-171360"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ice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5680" indent="-171360"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aker de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Classifier – Speaker distinction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Emphasis placed on aggregate separation of distributions, rather than individual observations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Classifiers - Types</a:t>
            </a:r>
            <a:endParaRPr b="1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30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10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Three broad categories of classifiers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-361800">
              <a:spcBef>
                <a:spcPts val="901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criminative 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(decision boundar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960" indent="-361800">
              <a:spcBef>
                <a:spcPts val="901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-parametric 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(observation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960" indent="-361800">
              <a:spcBef>
                <a:spcPts val="901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ametric 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(distributi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600200" y="5257800"/>
            <a:ext cx="6172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pecial emphasis on parametric class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or speaker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Classifiers – Non-parametric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akes no assumption about the speaker model distribution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lies totally on training observation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Operates under philosophy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1371600" y="3809880"/>
                <a:ext cx="22860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>
            <a:off x="4495680" y="3733920"/>
            <a:ext cx="46483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number of observations 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number of total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volume of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72240" y="5867280"/>
            <a:ext cx="88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stimate becomes more accurate as n -&gt; infinity and V -&gt; 0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Non-parametric – Nearest Neighbor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n practice only have a finite amount of sample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Nearest neighbor strategy natural extension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ttempts to find nearest labeled observation to the test observation using some distance measure D()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orrelation filters can be interpreted as a nearest neighbor classifier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Nearest Neighbor - Example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503280" y="685800"/>
            <a:ext cx="8640720" cy="648000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5638680" y="205740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191120" y="1143000"/>
            <a:ext cx="3657600" cy="1143000"/>
          </a:xfrm>
          <a:prstGeom prst="irregularSeal2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19671600">
            <a:off x="5546880" y="2668320"/>
            <a:ext cx="406080" cy="5331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709160" y="1523880"/>
            <a:ext cx="24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ahoma"/>
              </a:rPr>
              <a:t>Nearest neigh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Classifiers – Non-parametric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echnique works well when there is limited knowledge describing classe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asks like face verification use non-parametric classifiers with good result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asks where there are large amounts of observations, less attractive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ue to storage limitations and computational tractability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daptation to new conditions is messy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Classifiers - Discriminant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38280" y="126180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iscriminant classifiers commonly used in many tasks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ypical discriminative classifiers are,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ificial Neural Networks (AN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Vector Machines (SV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Attempt to find decision boundary not likelihood function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raining involves all classes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Discriminant classifiers - Example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6067440" cy="4829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3657600" y="2133720"/>
                <a:ext cx="7621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6697800" y="4038480"/>
                <a:ext cx="77940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9" name=""/>
          <p:cNvSpPr/>
          <p:nvPr/>
        </p:nvSpPr>
        <p:spPr>
          <a:xfrm flipH="1">
            <a:off x="6095880" y="2362320"/>
            <a:ext cx="990720" cy="5331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400800" y="1143000"/>
            <a:ext cx="2286000" cy="1828800"/>
          </a:xfrm>
          <a:prstGeom prst="irregularSeal1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652800" y="175248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nds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ound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3048120" y="4114440"/>
            <a:ext cx="53316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3657600" y="54100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523880" y="4648320"/>
            <a:ext cx="2590920" cy="2514600"/>
          </a:xfrm>
          <a:prstGeom prst="irregularSeal1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994040" y="5257800"/>
            <a:ext cx="170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e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lici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nd likeli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Discriminant classifiers - Problems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8229600" cy="49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sults up until now have been poor in literature for speaker verification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15360" indent="-31536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ttributed to a number of factors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ation to new conditions not mathematically clear (channel conditions) as likelihood function is not found direct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riminant classifiers tend to separate individual observations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stribu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class dependence makes training difficult and computationally intens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96720" y="213840"/>
            <a:ext cx="874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Classifiers - Discriminant</a:t>
            </a:r>
            <a:endParaRPr b="1" lang="en-US" sz="44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830592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Jury is still out on the use of discriminant classifiers in speaker verification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venue for future research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iscriminant classifiers tend to be well suited to problems,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he number of classes is well def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990000"/>
              </a:buClr>
              <a:buSzPct val="75000"/>
              <a:buFont typeface="Wingdings 3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al mismatch between training and testing cond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0000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Have found their niche in computer vision problems (i.e. object detection and recognition)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3:43:28Z</dcterms:created>
  <dc:creator>CMU</dc:creator>
  <dc:description/>
  <dc:language>en-US</dc:language>
  <cp:lastModifiedBy>Simon Lucey</cp:lastModifiedBy>
  <dcterms:modified xsi:type="dcterms:W3CDTF">2004-04-22T19:38:52Z</dcterms:modified>
  <cp:revision>104</cp:revision>
  <dc:subject/>
  <dc:title>Speaker Verification Tutorial for Son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